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E5A02-FD92-4D5E-9456-08281C300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F76DA-BB5A-49EA-8455-548C04FF2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FFCFD9-264C-425F-A579-9DD35CB1DD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DFC032-EA6C-4581-98F9-63DF02B4DD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649270-B4B2-49EE-B1C9-E63D174C97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83C507-DA9B-4E3B-BE17-57D78C5BF3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E7E5FE-CBD6-4605-BC53-9E99EE0C19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49DE65-28C6-4E28-BEBB-FCCE7ED1DF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339695-A26E-46FB-A20B-59BE7A5B95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F73342-A08F-4027-AEB5-10F4A714A4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539F00-FEF4-48B8-A542-80285B00FA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6EBD255-42A0-4AF7-AB29-534BA790F0B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618C9-41BD-4F24-AA14-0A4D0A2F0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2040B47-212F-4B1F-B05B-9DD2F75600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B8E555E-C49F-437A-BDEF-BB805F62CEE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AEBAAA-3BD2-41F4-9089-2A7CA6E2AB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CD2627-8580-493A-A13E-47B34E02DC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2659CAF-C828-4E64-9056-17B84E65454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0666A1-4E3E-4190-9308-CCEDBF2761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E150F6-29EA-442F-AAD2-EE4F5D9FC6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44201C-88F4-4597-B344-085F790775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8802D45-CBBE-418A-A43A-8FC507A808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D9A8D5E-1712-4229-82C1-012B47A0EE2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5BAF2-A933-47F7-A10C-26AD56320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35DCE22-E434-4540-B881-017245EF258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AA38336-9B6A-4D3F-8169-1D91736EBF2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819580-9CCD-451D-8E50-729A582215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9D6F7B-78C9-4A8E-B106-D6280EBB1F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1D5984D-C1B9-4107-859A-7140E32C43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2C38EA8-93A0-49EB-856F-3C23B6E4C3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526152-5F83-4EA4-A2D3-8E8E360D25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89D8BD-49A3-4662-AD62-9920810EB0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40B39B-1810-4DFA-B0AD-C9D91426D0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E16364-C5E6-402E-8508-7AE2EA2A11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7C4FD3-C7B4-45DC-BC2C-62BB7F23B9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FF7F92-DBB0-4F56-B538-03046747CE2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42D6EE1-088A-4E71-AA8B-12D46DC45B9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C51746D-AE1F-47AF-BF77-F23ED13D94E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0F33ECE-96BF-4FF6-ADB9-105CECFF507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1ACBB4-EAEB-40B8-9907-A1E6F7367D5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D69450-49E4-475A-B98F-0667973DBD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DC3C1A-DBEF-45CF-95E3-C9F6D3D8875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B3D6DD6-C837-46E2-BDA8-16A39F4A32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ECF3C0-7F95-4512-A43E-40C780A057C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E04CFD-A6F1-4BE9-B2F5-0B56C6DEAB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F91F8-4C41-4771-A2A4-25CD195BF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941F813-E531-4D4C-AC2E-05AA44AA3DE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8A1D93-D1D7-4433-9D99-F74CCDDC58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311274-1E8C-4303-95B9-D8E1F6E606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4CC2A20-7578-4A1D-A585-3ADDA0668BC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D12EC7B-118E-4BE9-9819-7A4BDC2D7E8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CC543-AE7C-42EA-8225-2C0EEA4D7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B0C07-DCDA-4018-B200-301635D25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36A4E-71D2-412A-83C4-AB0C33A09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9ED12-36F4-4D2B-B653-6E4EF7120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D2E15-E49C-41E4-8967-A4865C525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FFCF7-0B0C-4C40-B601-4BEAB51E4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01686-FB78-46A8-A911-58F1AC6CA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93ACD-1211-49C3-A5B0-4ED9C60BB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0DBA0-543D-472C-94DB-90C4B70DA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F6B243-41FC-456F-BF1E-61F5D2DDB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4DE8FE-4A1B-4E43-A04E-FEA211A379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789B6F-7E20-404C-BF90-2F1F04408C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A5245E-2CC3-4396-A0D6-D3FB7DFC34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D57E1A-1061-407B-9721-8A3F9B4801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C26AE6-5560-4B9E-9D35-5D5494D49E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3BA554-E465-4E0E-B7A0-64F2CEA675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8C7FE-C98E-4F90-865B-EAEE0F603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0E42EB-892B-4D80-B510-6BE2164D2D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3EF910-1900-4B93-AC9A-E6A1ED1902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EBC2AF-ABF9-4438-933A-0FA63167FC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80ED22-1374-4473-8E8B-B96E9A49FB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EEFE45-71BF-4205-B1E8-85A1D34FFE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BD2125-6EFA-49FF-8D0E-33702B36CF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E65B38-9B70-4A3B-AC20-EDF6BFE89E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3B94AD-D992-40DD-ADCA-8C05AC9FE4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292039-C88C-4527-888A-5E3BB85C86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5868F3-C2BE-4AF9-9DF9-53A492A3B2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B66B5-7337-46F5-B39C-802011118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4C8C16-B700-405F-B8E9-5278A77AB9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AF5BCE-0E98-4C58-9243-9F5A75F237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0BD12B-79E7-4A97-8C1F-8C045A3A38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E0B7C6-8293-4683-8B65-1078BF1F8B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A0772E-6914-42AE-B325-3EA850F20C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921D25-7524-41A4-A0C7-6E70A8BEA2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CE2131-D496-492B-B3EB-654EE2F752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F19CB0-28B8-478F-9CDA-3C3D6F23E8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B6FFC2-9C39-4FF9-A165-7AC2E971BD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862135-F55E-46FB-873E-A93C72C5DB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6B5E5-AF75-457F-AA75-4C04CD281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6E6C30-902C-4FCC-B740-2CA1215D4B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9A4F0B-0CC4-4DC4-8A7D-7744895EF6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CA6A8E-F664-42B6-9D05-BF1ED3EDD5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32D4ED-7344-4806-8803-7EA076E288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B5B78D-A5A1-459F-A52E-3AA1866CFF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FD18B0-8D2D-4078-A5A3-BEF74DAF9C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C543D1-00CC-43E2-9AD1-E0594B3E69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A65F9C-B8BF-469F-9502-585900E119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BF3703-38DF-4830-9516-40F48C2110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BC5DB9-990D-406B-9529-6554FAF9A6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9A69C-B3B2-442E-9C14-9D96EB7AD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2CBD66-4756-4277-95FA-44328A3229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212A22-806E-4B66-8136-576E4E5C72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24796D-49AC-4DAE-A6FB-F807ED53FE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2D8193-D09E-4744-A5C8-0569FED28E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68D942-89AF-44EB-A2D6-7E54A51B4F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347C94-AB00-492F-844E-6351C3D056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2D361A-EA1B-4A9E-ACBA-0A3E438261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8D2F1A-6453-4AC7-8E72-4760C7C8B5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3E8D03-E1C8-4195-B746-9BF9942866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9CBA53-4B21-4D52-9224-0897117EEA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CE244-1745-4495-A4F4-D07CF27C7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26C7EB-64CC-46F6-AD32-BEAEC1DB2F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08E2AA-F29B-4C78-A1A0-195FCA57D2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01659A-E274-4063-89E2-6A4A9FF40C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A2B20D-E58D-4F80-AF0B-EE5E39965B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A08918-896D-46B5-B6AE-21277FCA03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503892-84CD-498B-80D0-D04E577217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3C843B-7EA3-4A1F-B9F6-DE9E417824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44C5C8-D931-4FD0-81E3-B7C36850A7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3DA06A-D854-4747-82F5-B8223165CB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BD61C3-04D7-4025-B9D0-3FE5756F06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F51D1-4865-43AE-BCC3-00F0E4269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4B5450-D2E3-4151-BADF-633F07E92D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19C3E7-8108-4A17-B618-90DB6EDCD1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EED590-8869-494A-AB5F-E6163B10F2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83351E-C44C-4616-BF2A-64335A6280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D8E65B-16FB-4AD0-A118-772A2DDDF6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0B0B82-2CCB-45B6-A18F-1623CA62AA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DCF3EC-6B0E-4F4F-B953-61A2A67950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5C108D-8950-455C-8054-465CCAB020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34D70E-4F75-4BC8-B014-09B516F94E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137297-8167-4681-A5A1-6040DF1BCF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4A4C8-4538-4807-A879-90ED38606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F1630E-5A05-41AB-9B02-A173CCADC2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B81E03-758D-4981-85E1-5EC412222D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40BD30-AB0C-47FC-A64C-919F34D23F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8ADC72-73D7-4757-84F8-34371B8FD2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296FF8-F551-4FEF-98DB-1EE1066814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2009AC-BC03-4AF9-A797-82B096076B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AAE7F4-6FBF-4DD2-B97B-33A0D57148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959B88-490F-45FC-9E63-0BBF625DCA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563FFC-6497-414E-A54C-F3B81ABDC3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49A1E1-E7C8-4CFB-982D-76E9DE12D7F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826AF-0F40-420E-A165-C614C2BFC5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E97C-2E60-486C-B35A-05F5A910A04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5985-511B-4CBC-926E-D79F8D68D1A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E6B20-92EC-4A5E-BAF8-FAB0E37C249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F82C7-F880-4A7D-B38B-264FCC690D9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DF38-6DDD-4FCF-8D02-6524F82021D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39FB-CBA1-4EBC-B08F-1496ACC803B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4D027-8959-47BE-8E84-0739E3A20FD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B4D69-C60C-47F7-8378-31DCC9AAC11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904AC-B039-4585-9363-B513EB7DA2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F76B1-C564-4A58-9EA1-664B5A178DB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D3EC-6991-4E4C-AF5B-9BF5608B549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571320"/>
            <a:ext cx="7772400" cy="92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LATTIE REUMATICHE</a:t>
            </a:r>
            <a:endParaRPr b="0" lang="en-US" sz="4400" spc="-1" strike="noStrike">
              <a:solidFill>
                <a:srgbClr val="000000"/>
              </a:solidFill>
              <a:latin typeface="Calibri"/>
            </a:endParaRPr>
          </a:p>
        </p:txBody>
      </p:sp>
      <p:sp>
        <p:nvSpPr>
          <p:cNvPr id="4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94" name="Immagine 2051" descr=""/>
          <p:cNvPicPr/>
          <p:nvPr/>
        </p:nvPicPr>
        <p:blipFill>
          <a:blip r:embed="rId1"/>
          <a:stretch/>
        </p:blipFill>
        <p:spPr>
          <a:xfrm>
            <a:off x="1214280" y="2117880"/>
            <a:ext cx="6715440" cy="411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8900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UMATISMI EXSTRARTICOLARI</a:t>
            </a:r>
            <a:endParaRPr b="0" lang="en-US" sz="4400" spc="-1" strike="noStrike">
              <a:solidFill>
                <a:srgbClr val="000000"/>
              </a:solidFill>
              <a:latin typeface="Calibri"/>
            </a:endParaRPr>
          </a:p>
        </p:txBody>
      </p:sp>
      <p:sp>
        <p:nvSpPr>
          <p:cNvPr id="515" name=""/>
          <p:cNvSpPr txBox="1"/>
          <p:nvPr/>
        </p:nvSpPr>
        <p:spPr>
          <a:xfrm>
            <a:off x="36360" y="1268280"/>
            <a:ext cx="8964720" cy="485784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I reumatismi cosiddetti extrarticolari comprendono forme localizzate com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 tendiniti,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 periartriti,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 borsiti, </a:t>
            </a:r>
            <a:endParaRPr b="0" lang="en-US" sz="30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 sindrome dolorose miofasciali.</a:t>
            </a:r>
            <a:br>
              <a:rPr sz="3000"/>
            </a:br>
            <a:r>
              <a:rPr b="0" lang="it-IT"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Comprendono anche forme diffuse tra cui la sindrome fibromialgica. Questa è una malattia molto diffusa specie nel sesso femminil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6360" y="189000"/>
            <a:ext cx="8964720" cy="640872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Le malattie reumatiche sono malattie ad alto impatto sociale sia come costi che come qualità di vita.</a:t>
            </a:r>
            <a:br>
              <a:rPr sz="2800"/>
            </a:br>
            <a:r>
              <a:rPr b="0" lang="en-US" sz="2800" spc="-1" strike="noStrike">
                <a:solidFill>
                  <a:srgbClr val="000000"/>
                </a:solidFill>
                <a:latin typeface="Calibri"/>
              </a:rPr>
              <a:t>E’ caratterizzata da dolore muscolo scheletrico diffuso e da astenia (stanchezza); sono presenti punti dolorosi (chiamati punti tender). Condizione invalidante per la persona che ne soffre.</a:t>
            </a:r>
            <a:br>
              <a:rPr sz="2800"/>
            </a:br>
            <a:r>
              <a:rPr b="0" lang="en-US" sz="2800" spc="-1" strike="noStrike">
                <a:solidFill>
                  <a:srgbClr val="000000"/>
                </a:solidFill>
                <a:latin typeface="Calibri"/>
              </a:rPr>
              <a:t>La stanchezza è spesso profonda e tale da compromettere la vita sia lavorativa che di relazione.</a:t>
            </a:r>
            <a:br>
              <a:rPr sz="2800"/>
            </a:br>
            <a:r>
              <a:rPr b="0" lang="en-US" sz="2800" spc="-1" strike="noStrike">
                <a:solidFill>
                  <a:srgbClr val="000000"/>
                </a:solidFill>
                <a:latin typeface="Calibri"/>
              </a:rPr>
              <a:t>E’ una malattia spesso associata a: disturbi intestinali (tipo colon irritabile); disturbi neurologici (tipo cefalea), difetto di concentrazione, vertigini, insonnia, dolori temporo mandibolari;  disturbi uditivi (tinniti); disturbi nella sfera genitale, urinaria; sensazioni di formicolii, di caldo e freddo spesso localizzati in zone specifiche del corpo. Non è una malattia psichic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095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TOMI</a:t>
            </a:r>
            <a:endParaRPr b="0" lang="en-US" sz="4400" spc="-1" strike="noStrike">
              <a:solidFill>
                <a:srgbClr val="000000"/>
              </a:solidFill>
              <a:latin typeface="Calibri"/>
            </a:endParaRPr>
          </a:p>
        </p:txBody>
      </p:sp>
      <p:sp>
        <p:nvSpPr>
          <p:cNvPr id="518" name=""/>
          <p:cNvSpPr txBox="1"/>
          <p:nvPr/>
        </p:nvSpPr>
        <p:spPr>
          <a:xfrm>
            <a:off x="71280" y="835200"/>
            <a:ext cx="9001440" cy="60228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000" spc="-1" strike="noStrike">
                <a:solidFill>
                  <a:srgbClr val="000000"/>
                </a:solidFill>
                <a:latin typeface="Calibri"/>
              </a:rPr>
              <a:t>I sintomi causati dalle malattie reumatiche sono molteplici, ma limitandosi all’apparato locomotore il sintomo preminente rimane il </a:t>
            </a:r>
            <a:r>
              <a:rPr b="1" lang="en-US" sz="3000" spc="-1" strike="noStrike">
                <a:solidFill>
                  <a:srgbClr val="000000"/>
                </a:solidFill>
                <a:latin typeface="Calibri"/>
              </a:rPr>
              <a:t>dolore</a:t>
            </a:r>
            <a:r>
              <a:rPr b="0" lang="en-US" sz="3000" spc="-1" strike="noStrike">
                <a:solidFill>
                  <a:srgbClr val="000000"/>
                </a:solidFill>
                <a:latin typeface="Calibri"/>
              </a:rPr>
              <a:t> accompagnato da limitazione della funzione.</a:t>
            </a:r>
            <a:br>
              <a:rPr sz="3000"/>
            </a:br>
            <a:r>
              <a:rPr b="0" lang="en-US" sz="3000" spc="-1" strike="noStrike">
                <a:solidFill>
                  <a:srgbClr val="000000"/>
                </a:solidFill>
                <a:latin typeface="Calibri"/>
              </a:rPr>
              <a:t>L’artrite si manifesta generalmente con dolore, tumefazione, calore e rossore delle articolazioni.</a:t>
            </a:r>
            <a:br>
              <a:rPr sz="3000"/>
            </a:br>
            <a:r>
              <a:rPr b="0" lang="en-US" sz="3000" spc="-1" strike="noStrike">
                <a:solidFill>
                  <a:srgbClr val="000000"/>
                </a:solidFill>
                <a:latin typeface="Calibri"/>
              </a:rPr>
              <a:t>L’impaccio doloroso, la debolezza, l’affaticabilità, la limitazione del movimento, la deformazione e gli scrosci (rumori) articolari sono segni e sintomi che vanno tenuti in considerazione.</a:t>
            </a:r>
            <a:br>
              <a:rPr sz="3000"/>
            </a:br>
            <a:r>
              <a:rPr b="0" lang="en-US" sz="3000" spc="-1" strike="noStrike">
                <a:solidFill>
                  <a:srgbClr val="000000"/>
                </a:solidFill>
                <a:latin typeface="Calibri"/>
              </a:rPr>
              <a:t>Il dolore può essere acuto ma può anche cronicizzarsi, diventa esso stesso malatti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0" y="549360"/>
            <a:ext cx="8686800" cy="5648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Una diagnosi precoce con un trattamento altrettanto precoce, migliora l’evoluzione della malattia.</a:t>
            </a:r>
            <a:br>
              <a:rPr sz="3200"/>
            </a:br>
            <a:r>
              <a:rPr b="0" lang="en-US" sz="3200" spc="-1" strike="noStrike">
                <a:solidFill>
                  <a:srgbClr val="000000"/>
                </a:solidFill>
                <a:latin typeface="Calibri"/>
              </a:rPr>
              <a:t>Il trattamento precoce può cambiare radicalmente la storia naturale della malattia.</a:t>
            </a:r>
            <a:br>
              <a:rPr sz="3200"/>
            </a:br>
            <a:r>
              <a:rPr b="0" lang="en-US" sz="3200" spc="-1" strike="noStrike">
                <a:solidFill>
                  <a:srgbClr val="000000"/>
                </a:solidFill>
                <a:latin typeface="Calibri"/>
              </a:rPr>
              <a:t>Un approccio tempestivo ed appropriato alle esigenze assistenziali del lavoratore affetto da una malattia reumatica invalidante genera salute per il paziente e risparmio per la collettività.</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425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NMAR</a:t>
            </a:r>
            <a:endParaRPr b="0" lang="en-US" sz="4400" spc="-1" strike="noStrike">
              <a:solidFill>
                <a:srgbClr val="000000"/>
              </a:solidFill>
              <a:latin typeface="Calibri"/>
            </a:endParaRPr>
          </a:p>
        </p:txBody>
      </p:sp>
      <p:sp>
        <p:nvSpPr>
          <p:cNvPr id="521" name=""/>
          <p:cNvSpPr txBox="1"/>
          <p:nvPr/>
        </p:nvSpPr>
        <p:spPr>
          <a:xfrm>
            <a:off x="250560" y="1000080"/>
            <a:ext cx="8435880" cy="5732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L’ANMAR Onlus, Associazione Nazionale Malati Reumatici, nasce a Roma nel 1985 da un gruppo di pazienti e di medici, con l’intento di diffondere e favorire la conoscenza delle “Malattie Reumatiche” presso la Società, le Istituzioni Sanitarie e le Autorità Nazionali. Altro aspetto fondamentale è la promozione della cultura dell’informazione e della formazione con la produzione e divulgazione di materiale, distribuito su tutto il territorio nazional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360" y="35244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ARMACI</a:t>
            </a:r>
            <a:endParaRPr b="0" lang="en-US" sz="4400" spc="-1" strike="noStrike">
              <a:solidFill>
                <a:srgbClr val="000000"/>
              </a:solidFill>
              <a:latin typeface="Calibri"/>
            </a:endParaRPr>
          </a:p>
        </p:txBody>
      </p:sp>
      <p:sp>
        <p:nvSpPr>
          <p:cNvPr id="523" name=""/>
          <p:cNvSpPr txBox="1"/>
          <p:nvPr/>
        </p:nvSpPr>
        <p:spPr>
          <a:xfrm>
            <a:off x="107640" y="1312560"/>
            <a:ext cx="8893080" cy="5429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L’uso dei FANS va fatto con moderazione specie nelle persone anziane, con protezione gastrica quando necessari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I farmaci di fondo piu’ usati sono il Metotrexate (il farmaco piu’ conosciuto ed usato), la idrossiclorochina, la ciclosporina, la leflunamide, la salazopirina.</a:t>
            </a:r>
            <a:br>
              <a:rPr sz="3200"/>
            </a:br>
            <a:r>
              <a:rPr b="0" lang="en-US" sz="3200" spc="-1" strike="noStrike">
                <a:solidFill>
                  <a:srgbClr val="000000"/>
                </a:solidFill>
                <a:latin typeface="Calibri"/>
              </a:rPr>
              <a:t>Sono di recente introduzione i cosiddetti farmaci biologic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24000" y="928800"/>
            <a:ext cx="8424720" cy="559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Una corretta, regolare, moderata attività fisica aerobica è uti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Le malattie reumatiche sono affezioni molto complesse e tra loro differenti; ogni ammalato ha una sua malattia con i suoi problemi ed il suo dolore.</a:t>
            </a:r>
            <a:br>
              <a:rPr sz="3200"/>
            </a:br>
            <a:r>
              <a:rPr b="0" lang="en-US" sz="3200" spc="-1" strike="noStrike">
                <a:solidFill>
                  <a:srgbClr val="000000"/>
                </a:solidFill>
                <a:latin typeface="Calibri"/>
              </a:rPr>
              <a:t>La diagnosi deve essere precoce, vanno chiariti al paziente il tipo di malattia, la sua evoluzione, la proposta di trattamen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107640" y="777960"/>
            <a:ext cx="8893080" cy="5508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Le terapie innovative consentono, sebbene con un iniziale maggiore utilizzo di risorse, di migliorare la qualità di vita, aumentando la capacità lavorativa e produttiva delle persone colpit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gni giorno, infatti, i pazienti affetti da malattie reumatiche e auto-immuni, se non trattati appropriatamente, impiegano mediamente un'ora e mezza in più rispetto a chi non è malato solo per iniziare la giornata: pettinarsi, prendere un caffè, lavars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60" y="549360"/>
            <a:ext cx="8937720" cy="59040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La maggioranza dei pazienti con malattie reumatiche invalidanti ha un’età compresa fra i 45 e i 64 anni, cioè nel pieno della vita lavorativa attiva: il dolore, il sintomo principale di queste malattie, peggiora la qualità della vita e compromette la capacità lavorativa e produttiva. Le malattie reumatiche sono oggi la prima causa di assenze dal lavoro e la seconda causa di invalidità, responsabili della metà delle assenze superiori ai tre giorni, del 60% dei casi di inabilità al lavoro e del 27% delle pensioni di invalidità erogate dallo Sta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429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ROCCIO ALLA MALATTIA</a:t>
            </a:r>
            <a:endParaRPr b="0" lang="en-US" sz="4400" spc="-1" strike="noStrike">
              <a:solidFill>
                <a:srgbClr val="000000"/>
              </a:solidFill>
              <a:latin typeface="Calibri"/>
            </a:endParaRPr>
          </a:p>
        </p:txBody>
      </p:sp>
      <p:sp>
        <p:nvSpPr>
          <p:cNvPr id="528" name=""/>
          <p:cNvSpPr txBox="1"/>
          <p:nvPr/>
        </p:nvSpPr>
        <p:spPr>
          <a:xfrm>
            <a:off x="0" y="620640"/>
            <a:ext cx="9144000" cy="623736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 </a:t>
            </a:r>
            <a:r>
              <a:rPr b="0" lang="en-US" sz="3100" spc="-1" strike="noStrike">
                <a:solidFill>
                  <a:srgbClr val="000000"/>
                </a:solidFill>
                <a:latin typeface="Calibri"/>
              </a:rPr>
              <a:t>	</a:t>
            </a:r>
            <a:r>
              <a:rPr b="0" lang="en-US" sz="3100" spc="-1" strike="noStrike">
                <a:solidFill>
                  <a:srgbClr val="000000"/>
                </a:solidFill>
                <a:latin typeface="Calibri"/>
              </a:rPr>
              <a:t>Il trattamento della malattia reumatoide, richiede un approccio multidisciplinare. L'èquipe di lavoro comprende: il medico, l'infermiere, il fisioterapista. </a:t>
            </a:r>
            <a:endParaRPr b="0" lang="en-US" sz="3100" spc="-1" strike="noStrike">
              <a:solidFill>
                <a:srgbClr val="000000"/>
              </a:solidFill>
              <a:latin typeface="Calibri"/>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    </a:t>
            </a:r>
            <a:r>
              <a:rPr b="0" lang="en-US" sz="3100" spc="-1" strike="noStrike">
                <a:solidFill>
                  <a:srgbClr val="000000"/>
                </a:solidFill>
                <a:latin typeface="Calibri"/>
              </a:rPr>
              <a:t>Gli obiettivi includono:</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la riduzione o la soppressione del dolore e del processo infiammatorio,</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la riduzione della progressione della malattia,</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 </a:t>
            </a:r>
            <a:r>
              <a:rPr b="0" lang="en-US" sz="3100" spc="-1" strike="noStrike">
                <a:solidFill>
                  <a:srgbClr val="000000"/>
                </a:solidFill>
                <a:latin typeface="Calibri"/>
              </a:rPr>
              <a:t>l'aumento del benessere,</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l mantenimento della funzionalità articolare e muscolare,</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l ritorno ad uno stile di vita desiderabile e produttivo.</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34920" y="150840"/>
            <a:ext cx="8964720" cy="4214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Le malattie reumatiche o reumatismi sono delle condizioni morbose che causano disturbi a carico dell'apparato locomotore ed in generale dei tessuti di sostegno (connettivi) dell'organismo. Sono malattie tra loro molto varie, con gravità differenti. Alcune delle quali possono colpire le articolazioni, le ossa e i tendini, mentre altre anche altri tessuti ed organi (sistemica).</a:t>
            </a:r>
            <a:endParaRPr b="0" lang="en-US" sz="3200" spc="-1" strike="noStrike">
              <a:solidFill>
                <a:srgbClr val="000000"/>
              </a:solidFill>
              <a:latin typeface="Calibri"/>
            </a:endParaRPr>
          </a:p>
        </p:txBody>
      </p:sp>
      <p:sp>
        <p:nvSpPr>
          <p:cNvPr id="496" name="Rettangolo 307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1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0" name="Immagine 4098" descr=""/>
          <p:cNvPicPr/>
          <p:nvPr/>
        </p:nvPicPr>
        <p:blipFill>
          <a:blip r:embed="rId1"/>
          <a:stretch/>
        </p:blipFill>
        <p:spPr>
          <a:xfrm>
            <a:off x="2643120" y="4159080"/>
            <a:ext cx="3443400" cy="255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107640" y="765000"/>
            <a:ext cx="8893080" cy="5361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Fin dalle fasi iniziali è importante impostare il trattamento con l'istruzione del paziente, consigliandogli di mantenere un equilibrio tra i periodi di riposo e attività e di riferirsi a gruppi di supporto. Il paziente deve acquisire la conoscenza necessaria per una propria autonomia e uno stile di vita soddisfacen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Questo tipo di approccio contribuisce a ridurre la disabilità del paziente e a restituirgli uno stile di vita accettabi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539640" y="856800"/>
            <a:ext cx="8175600" cy="5451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Il ruolo dell'infermie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istere il pazien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utarlo nell' autogesti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egnare al paziente il giusto comportamento per affrontare la malattia.</a:t>
            </a:r>
            <a:endParaRPr b="0" lang="en-US" sz="3200" spc="-1" strike="noStrike">
              <a:solidFill>
                <a:srgbClr val="000000"/>
              </a:solidFill>
              <a:latin typeface="Calibri"/>
            </a:endParaRPr>
          </a:p>
        </p:txBody>
      </p:sp>
      <p:pic>
        <p:nvPicPr>
          <p:cNvPr id="531" name="Picture 5" descr="https://media2.picsearch.com/is?yD97EhqaOWND23z8WBJKGcM3xOCNgu8PH0uWdOEbC9U&amp;height=255"/>
          <p:cNvPicPr/>
          <p:nvPr/>
        </p:nvPicPr>
        <p:blipFill>
          <a:blip r:embed="rId1"/>
          <a:stretch/>
        </p:blipFill>
        <p:spPr>
          <a:xfrm>
            <a:off x="7596360" y="0"/>
            <a:ext cx="1547640" cy="1074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235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ERTAMENTO</a:t>
            </a:r>
            <a:endParaRPr b="0" lang="en-US" sz="4400" spc="-1" strike="noStrike">
              <a:solidFill>
                <a:srgbClr val="000000"/>
              </a:solidFill>
              <a:latin typeface="Calibri"/>
            </a:endParaRPr>
          </a:p>
        </p:txBody>
      </p:sp>
      <p:sp>
        <p:nvSpPr>
          <p:cNvPr id="533" name=""/>
          <p:cNvSpPr txBox="1"/>
          <p:nvPr/>
        </p:nvSpPr>
        <p:spPr>
          <a:xfrm>
            <a:off x="0" y="907560"/>
            <a:ext cx="9144000" cy="5473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La raccolta dei dati comincia con l'intervista al paziente e l'esame obiettivo.</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Durante l'anamnesi l'infermiere valuta l'immagine che il paziente ha di sé, in relazione alle alterazioni muscoloscheletriche e determina se egli risenta di un affaticamento inconsueto, o soffra di debolezza generalizzata, di dolore, di rigidità mattutina, febbre o anoressi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Includendo la valutazione del sistemi cardiovascolare, polmonare, renale e muscoloscheletrico.</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L'infermiere mira all'identificazione dei problemi e dei fattori che influenzano la scelta dell'intervento.</a:t>
            </a:r>
            <a:endParaRPr b="0" lang="en-US" sz="2800" spc="-1" strike="noStrike">
              <a:solidFill>
                <a:srgbClr val="000000"/>
              </a:solidFill>
              <a:latin typeface="Calibri"/>
            </a:endParaRPr>
          </a:p>
        </p:txBody>
      </p:sp>
      <p:pic>
        <p:nvPicPr>
          <p:cNvPr id="534" name="Picture 5" descr="https://media2.picsearch.com/is?yD97EhqaOWND23z8WBJKGcM3xOCNgu8PH0uWdOEbC9U&amp;height=255"/>
          <p:cNvPicPr/>
          <p:nvPr/>
        </p:nvPicPr>
        <p:blipFill>
          <a:blip r:embed="rId1"/>
          <a:stretch/>
        </p:blipFill>
        <p:spPr>
          <a:xfrm>
            <a:off x="7596360" y="0"/>
            <a:ext cx="1547640" cy="1074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Picture 5" descr="https://media2.picsearch.com/is?yD97EhqaOWND23z8WBJKGcM3xOCNgu8PH0uWdOEbC9U&amp;height=255"/>
          <p:cNvPicPr/>
          <p:nvPr/>
        </p:nvPicPr>
        <p:blipFill>
          <a:blip r:embed="rId1"/>
          <a:stretch/>
        </p:blipFill>
        <p:spPr>
          <a:xfrm>
            <a:off x="7596360" y="0"/>
            <a:ext cx="1547640" cy="1074600"/>
          </a:xfrm>
          <a:prstGeom prst="rect">
            <a:avLst/>
          </a:prstGeom>
          <a:ln w="0">
            <a:noFill/>
          </a:ln>
        </p:spPr>
      </p:pic>
      <p:sp>
        <p:nvSpPr>
          <p:cNvPr id="536" name=""/>
          <p:cNvSpPr txBox="1"/>
          <p:nvPr/>
        </p:nvSpPr>
        <p:spPr>
          <a:xfrm>
            <a:off x="-360" y="333360"/>
            <a:ext cx="9001080" cy="6524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Nella valutazione delle articolazioni, l'infermiere le ispeziona, le palpa e rivolge domande sull'indolenzimento, il gonfiore e l'arrossamento articolare, accertando la mobilità, l'ampiezza di movimento e la forza muscolar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L'infermiere valuta anche l'adesione al regime farmacologico e la capacità di gestirlo autonomament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Rivelando per esempio somministrazioni scorrette o non aderenti alle prescrizioni.</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i dovrebbero ottenere informazioni anche sul grado di conoscenza del paziente, sulla sua determinazione, sulle sue capacità di reazione, le esperienze passate, i preconcetti e i timor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5" descr="https://media2.picsearch.com/is?yD97EhqaOWND23z8WBJKGcM3xOCNgu8PH0uWdOEbC9U&amp;height=255"/>
          <p:cNvPicPr/>
          <p:nvPr/>
        </p:nvPicPr>
        <p:blipFill>
          <a:blip r:embed="rId1"/>
          <a:stretch/>
        </p:blipFill>
        <p:spPr>
          <a:xfrm>
            <a:off x="7596360" y="0"/>
            <a:ext cx="1547640" cy="1074600"/>
          </a:xfrm>
          <a:prstGeom prst="rect">
            <a:avLst/>
          </a:prstGeom>
          <a:ln w="0">
            <a:noFill/>
          </a:ln>
        </p:spPr>
      </p:pic>
      <p:sp>
        <p:nvSpPr>
          <p:cNvPr id="538" name="PlaceHolder 1"/>
          <p:cNvSpPr>
            <a:spLocks noGrp="1"/>
          </p:cNvSpPr>
          <p:nvPr>
            <p:ph type="title"/>
          </p:nvPr>
        </p:nvSpPr>
        <p:spPr>
          <a:xfrm>
            <a:off x="457200" y="1429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GNOSI INFERMIERISTICHE</a:t>
            </a:r>
            <a:endParaRPr b="0" lang="en-US" sz="4400" spc="-1" strike="noStrike">
              <a:solidFill>
                <a:srgbClr val="000000"/>
              </a:solidFill>
              <a:latin typeface="Calibri"/>
            </a:endParaRPr>
          </a:p>
        </p:txBody>
      </p:sp>
      <p:sp>
        <p:nvSpPr>
          <p:cNvPr id="539" name=""/>
          <p:cNvSpPr txBox="1"/>
          <p:nvPr/>
        </p:nvSpPr>
        <p:spPr>
          <a:xfrm>
            <a:off x="0" y="764640"/>
            <a:ext cx="9144000" cy="609300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Sulla base dei dati di valutazione, le principali diagnosi infermieristiche possono essere: </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lore relativo all'infiammazione, al danno tessutale e alla immobilità articolar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aticamento dovuto al progredire della malattia.</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une nella cura personale (alimentazione, igiene, cura del proprio aspetto) causate dalla fatica e dalla rigidità articolar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nno disturbato.</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canza di conoscenza nelle decisioni di autogestion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erazioni nel concetto di sé, relativo alla dipendenza fisica e psicologica della malattia cronica e alla perdita di utonom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Picture 5" descr="https://media2.picsearch.com/is?yD97EhqaOWND23z8WBJKGcM3xOCNgu8PH0uWdOEbC9U&amp;height=255"/>
          <p:cNvPicPr/>
          <p:nvPr/>
        </p:nvPicPr>
        <p:blipFill>
          <a:blip r:embed="rId1"/>
          <a:stretch/>
        </p:blipFill>
        <p:spPr>
          <a:xfrm>
            <a:off x="7596360" y="549360"/>
            <a:ext cx="1547640" cy="1074600"/>
          </a:xfrm>
          <a:prstGeom prst="rect">
            <a:avLst/>
          </a:prstGeom>
          <a:ln w="0">
            <a:noFill/>
          </a:ln>
        </p:spPr>
      </p:pic>
      <p:sp>
        <p:nvSpPr>
          <p:cNvPr id="541" name="PlaceHolder 1"/>
          <p:cNvSpPr>
            <a:spLocks noGrp="1"/>
          </p:cNvSpPr>
          <p:nvPr>
            <p:ph type="title"/>
          </p:nvPr>
        </p:nvSpPr>
        <p:spPr>
          <a:xfrm>
            <a:off x="0" y="115920"/>
            <a:ext cx="9144000" cy="11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IANIFICAZIONE E ATTUAZIONE DEGLI INTERVENTI</a:t>
            </a:r>
            <a:endParaRPr b="0" lang="en-US" sz="4000" spc="-1" strike="noStrike">
              <a:solidFill>
                <a:srgbClr val="000000"/>
              </a:solidFill>
              <a:latin typeface="Calibri"/>
            </a:endParaRPr>
          </a:p>
        </p:txBody>
      </p:sp>
      <p:sp>
        <p:nvSpPr>
          <p:cNvPr id="542" name=""/>
          <p:cNvSpPr txBox="1"/>
          <p:nvPr/>
        </p:nvSpPr>
        <p:spPr>
          <a:xfrm>
            <a:off x="0" y="1600200"/>
            <a:ext cx="9144000" cy="5068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SOLLIEVO DAL DOLORE E DAL MALESSE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Obiettivo: Alleviare al paziente il dolore e il malessere causati dalla patologi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Indicatore: Il paziente presenta sollievo dal dolore e dal malessere come indicato nei protocolli e nelle procedure prestabilit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0" y="70920"/>
            <a:ext cx="9144000" cy="6643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tecnico: </a:t>
            </a:r>
            <a:endParaRPr b="0" lang="en-US" sz="32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ticare applicazioni calde per alleviare il dolore, la rigidità e gli spasmi muscol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eguire bagni di paraffina (calore concentrato) per alleviare il dolore ai polsi e alle piccole articolazion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 i processi infiammatori acuti, adattare applicazioni fredde (borse del ghiacc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r eseguire al paziente la tecnica di Coping precedentemente insegna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uire e controllare i miglioramenti raggiunti dal pazi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relazionale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re sull'utilità della tecnica e sui benefici che questa comport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iegare al paziente l'utilità delle applicazioni di calore per compiere con maggiore efficacia e facilità gli esercizi terapeutic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iegare al paziente che le applicazioni calde e fredde agiscono come analgesici e rilassano gli spasmi muscolar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iegare al paziente ch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1. le tecniche di rilassamento muscolare riducono la tensione muscolare e l'ansi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2. Il coping permette il rilassamento e la concentrazione su eventi piacevoli in modo da escludere le esperienze spiacevoli e gli stimoli doloros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0" y="44280"/>
            <a:ext cx="9144000" cy="636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ccomandare ai familiari di cercare di distrarre il paziente, affinchè dedichi attenzione ad altri avvenimenti che non siano il solo dolo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edere al paziente se trova giovamento da queste terapie palliati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re il paziente e i familiari che, per qualsiasi necessità, ci sarà subito un operatore che risponderà alla richiesta di aiut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txBox="1"/>
          <p:nvPr/>
        </p:nvSpPr>
        <p:spPr>
          <a:xfrm>
            <a:off x="0" y="260280"/>
            <a:ext cx="9144000" cy="586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educativ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re il paziente a mantenere le applicazioni topiche in se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re il paziente alle tecniche di rilassamento muscolare, di coping e di distrazi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egnare le tecniche anche ai familiari affinché aiutino il paziente ad eseguirle correttam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0" y="214200"/>
            <a:ext cx="9144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3200" spc="-1" strike="noStrike">
                <a:solidFill>
                  <a:srgbClr val="000000"/>
                </a:solidFill>
                <a:latin typeface="Calibri"/>
              </a:rPr>
              <a:t>Possono interessare organi come cuore, polmone, rene, muscolo, intestino, occhio, pelle. </a:t>
            </a:r>
            <a:br>
              <a:rPr sz="3200"/>
            </a:br>
            <a:r>
              <a:rPr b="0" lang="en-US" sz="3200" spc="-1" strike="noStrike">
                <a:solidFill>
                  <a:srgbClr val="000000"/>
                </a:solidFill>
                <a:latin typeface="Calibri"/>
              </a:rPr>
              <a:t>Molte malattie reumatiche importanti, portano, oltre che dolore, disabilità, perdita di autonomia funzionale, perdita della capacità di guadagno, perdita della qualità di vita, anche un rischio di accorciamento della vita stessa. </a:t>
            </a:r>
            <a:endParaRPr b="0" lang="en-US" sz="3200" spc="-1" strike="noStrike">
              <a:solidFill>
                <a:srgbClr val="000000"/>
              </a:solidFill>
              <a:latin typeface="Calibri"/>
            </a:endParaRPr>
          </a:p>
        </p:txBody>
      </p:sp>
      <p:pic>
        <p:nvPicPr>
          <p:cNvPr id="502" name="Immagine 4098" descr=""/>
          <p:cNvPicPr/>
          <p:nvPr/>
        </p:nvPicPr>
        <p:blipFill>
          <a:blip r:embed="rId1"/>
          <a:stretch/>
        </p:blipFill>
        <p:spPr>
          <a:xfrm>
            <a:off x="2916360" y="4000680"/>
            <a:ext cx="3657600" cy="271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8864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IDUZIONE DELL'AFFATICAMENTO</a:t>
            </a:r>
            <a:endParaRPr b="0" lang="en-US" sz="4000" spc="-1" strike="noStrike">
              <a:solidFill>
                <a:srgbClr val="000000"/>
              </a:solidFill>
              <a:latin typeface="Calibri"/>
            </a:endParaRPr>
          </a:p>
        </p:txBody>
      </p:sp>
      <p:sp>
        <p:nvSpPr>
          <p:cNvPr id="548" name=""/>
          <p:cNvSpPr txBox="1"/>
          <p:nvPr/>
        </p:nvSpPr>
        <p:spPr>
          <a:xfrm>
            <a:off x="0" y="980640"/>
            <a:ext cx="9144000" cy="5877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biettiv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tenere il paziente ad uno stato di riposo e tranquillità introducendo nelle attività quotidiane le misure necessari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dicat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l paziente è tranquillo e non affaticato come indicato nei protocolli e nelle procedure prestabilit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0" y="259920"/>
            <a:ext cx="9144000" cy="6597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tecn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nire misure di sostegno per ridurre la fat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bilire periodi di riposo nel programma di attività fisich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istere nello stabilire le priorità.</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eguire le tecniche di rilassamen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eguire le tecniche di trattamento del dol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utare a definire un rapporto appropriato di attività e ripo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relazion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gliare di distanziare le attività.</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truire riguardo:</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1. Il rapporto tra le acuzie (stato di massima gravità) </a:t>
            </a:r>
            <a:r>
              <a:rPr b="0" lang="en-US" sz="2800" spc="-1" strike="noStrike">
                <a:solidFill>
                  <a:srgbClr val="000000"/>
                </a:solidFill>
                <a:latin typeface="Calibri"/>
              </a:rPr>
              <a:t>	</a:t>
            </a:r>
            <a:r>
              <a:rPr b="0" lang="en-US" sz="2800" spc="-1" strike="noStrike">
                <a:solidFill>
                  <a:srgbClr val="000000"/>
                </a:solidFill>
                <a:latin typeface="Calibri"/>
              </a:rPr>
              <a:t>della patologia e la fat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2. L'anemia in  rapporto alla patologi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3. La capacità fisica fluttua con le fasi della malatti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4. Il beneficio di una terapia marziale, con alimenti o </a:t>
            </a:r>
            <a:r>
              <a:rPr b="0" lang="en-US" sz="2800" spc="-1" strike="noStrike">
                <a:solidFill>
                  <a:srgbClr val="000000"/>
                </a:solidFill>
                <a:latin typeface="Calibri"/>
              </a:rPr>
              <a:t>	</a:t>
            </a:r>
            <a:r>
              <a:rPr b="0" lang="en-US" sz="2800" spc="-1" strike="noStrike">
                <a:solidFill>
                  <a:srgbClr val="000000"/>
                </a:solidFill>
                <a:latin typeface="Calibri"/>
              </a:rPr>
              <a:t>supplementi.</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5. Fattori fisici ed emotivi possono causare fatic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truire il paziente e i familiari sulle tecniche di rilassamento e trattamento del dolo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0" y="260280"/>
            <a:ext cx="9144000" cy="586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educativ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re il paziente sui metodi per prevenire o modificare l'affaticamen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llustrare al paziente i fattori fisici e psicologici che possono causare affaticamen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0" y="131760"/>
            <a:ext cx="91440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MENTO DELL'INDIPENDENZA NELL'AUTOGESTIONE DELLA MALATTIA (SELFCARE)</a:t>
            </a:r>
            <a:endParaRPr b="0" lang="en-US" sz="3200" spc="-1" strike="noStrike">
              <a:solidFill>
                <a:srgbClr val="000000"/>
              </a:solidFill>
              <a:latin typeface="Calibri"/>
            </a:endParaRPr>
          </a:p>
        </p:txBody>
      </p:sp>
      <p:sp>
        <p:nvSpPr>
          <p:cNvPr id="553" name=""/>
          <p:cNvSpPr txBox="1"/>
          <p:nvPr/>
        </p:nvSpPr>
        <p:spPr>
          <a:xfrm>
            <a:off x="178920" y="1412640"/>
            <a:ext cx="8820360" cy="5445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Obiettiv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r raggiungere e mantenere al paziente una buona mobilità funzion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Indicat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l paziente raggiunge e mantiene una buona mobilità come indicato nei protocolli e nelle procedure prestabilit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tecn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ticare esercizi terapeutic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ottare idonei strumenti di suppor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raggiare l'indipendenz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utare  il paziente a identificare i punti carenti e i fattori che interferiscono con la possibilità di effettuare una adeguata autogestione della malatt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viluppare con il paziente un piano di obiettivi e interventi per soddisfare le necessità di self-care, come la protezione delle articolazioni, la conservazione dell'energia, la semplificazione dell'attività.</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0" y="189000"/>
            <a:ext cx="9144000" cy="5937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relazion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re sull'utilità degli esercizi terapeutici e degli strumenti di suppor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gliare un fisioterapis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gliare l'uso di scarpe adat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utare a individuare le difficoltà ambiental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iegare l'importanza di periodi di riposo dopo l'attività.</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0" y="259920"/>
            <a:ext cx="9144000" cy="6597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educativ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egnare al paziente gli esercizi utili per raggiungere una buona mobilità.</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egnare gli esercizi anche ai familiari affinché aiutino il paziente ad eseguirli nel modo gius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re il paziente e i familiari sulle difficoltà ambientali e sull'uso di strumenti di suppor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91960"/>
            <a:ext cx="8229600" cy="77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GLIORAMENTO DEL SONNO</a:t>
            </a:r>
            <a:endParaRPr b="0" lang="en-US" sz="4400" spc="-1" strike="noStrike">
              <a:solidFill>
                <a:srgbClr val="000000"/>
              </a:solidFill>
              <a:latin typeface="Calibri"/>
            </a:endParaRPr>
          </a:p>
        </p:txBody>
      </p:sp>
      <p:sp>
        <p:nvSpPr>
          <p:cNvPr id="558" name=""/>
          <p:cNvSpPr txBox="1"/>
          <p:nvPr/>
        </p:nvSpPr>
        <p:spPr>
          <a:xfrm>
            <a:off x="0" y="1413000"/>
            <a:ext cx="9144000" cy="4713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Obiettiv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quillizzare il paziente in modo da fargli raggiungere un sonn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Indicat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l paziente è tranquillo e riesce a dormire bene durante la not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0" y="404640"/>
            <a:ext cx="9144000" cy="5832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tecnic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attare il letto alle singole esigen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bilire dei gesti rituali e abitudinari da praticare prime di coricars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quillizzare e rassicurare il pazien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ministrare sedativi o ipnotici quando gli altri mezzi non danno benefici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UMATISMI</a:t>
            </a:r>
            <a:endParaRPr b="0" lang="en-US" sz="4400" spc="-1" strike="noStrike">
              <a:solidFill>
                <a:srgbClr val="000000"/>
              </a:solidFill>
              <a:latin typeface="Calibri"/>
            </a:endParaRPr>
          </a:p>
        </p:txBody>
      </p:sp>
      <p:sp>
        <p:nvSpPr>
          <p:cNvPr id="504" name=""/>
          <p:cNvSpPr txBox="1"/>
          <p:nvPr/>
        </p:nvSpPr>
        <p:spPr>
          <a:xfrm>
            <a:off x="142560" y="1600200"/>
            <a:ext cx="28573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iammatori,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generativi,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abolici,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raarticolari</a:t>
            </a:r>
            <a:endParaRPr b="0" lang="en-US" sz="3200" spc="-1" strike="noStrike">
              <a:solidFill>
                <a:srgbClr val="000000"/>
              </a:solidFill>
              <a:latin typeface="Calibri"/>
            </a:endParaRPr>
          </a:p>
        </p:txBody>
      </p:sp>
      <p:pic>
        <p:nvPicPr>
          <p:cNvPr id="505" name="Immagine 5123" descr=""/>
          <p:cNvPicPr/>
          <p:nvPr/>
        </p:nvPicPr>
        <p:blipFill>
          <a:blip r:embed="rId1"/>
          <a:stretch/>
        </p:blipFill>
        <p:spPr>
          <a:xfrm>
            <a:off x="3143160" y="1785960"/>
            <a:ext cx="5889600" cy="3803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100080" y="404280"/>
            <a:ext cx="8686800" cy="5721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relaziona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nalizzare insieme i fattori che possono interferire con il sonn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durre l'assunzione di cibo e caffeina alla se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 bere alcolici alla se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mentare l'attività fisica nei limiti della tolleranz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itare troppi stimoli prima di coricars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 dormire nel tardo pomeriggi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250560" y="836280"/>
            <a:ext cx="8435880" cy="528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educativ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re il paziente sul corretto utilizzo dei farmac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cordare il paziente  che le difficoltà del sonno dipendono spesso da fattori che non sono in relazione con la patolog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GGIORE CONOSCENZA SUL TRATTAMENTO DELLA PATOLOGIA</a:t>
            </a:r>
            <a:endParaRPr b="0" lang="en-US" sz="3600" spc="-1" strike="noStrike">
              <a:solidFill>
                <a:srgbClr val="000000"/>
              </a:solidFill>
              <a:latin typeface="Calibri"/>
            </a:endParaRPr>
          </a:p>
        </p:txBody>
      </p:sp>
      <p:sp>
        <p:nvSpPr>
          <p:cNvPr id="563" name=""/>
          <p:cNvSpPr txBox="1"/>
          <p:nvPr/>
        </p:nvSpPr>
        <p:spPr>
          <a:xfrm>
            <a:off x="324000" y="1844640"/>
            <a:ext cx="8748720" cy="5013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Obiettiv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r raggiungere al paziente una buona  conoscenza sul trattamento della patologi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Indicat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l paziente ha le conoscenze necessarie per compiere scelte di autogestione della sua patolog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70920" y="205920"/>
            <a:ext cx="8929800" cy="5937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tecn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truire il paziente sul trattamento di base della sua malattia (causa, terapia, prognos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tare la disponibilità ad impar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icare gli ostacoli nell'apprendimen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zare diversi metodi per insegnare l'autogesti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179280" y="259920"/>
            <a:ext cx="8893440" cy="6264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relazion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iegare il regime farmacologico e la sua autosomministrazi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porre i cambiamenti necessari nelle proprie abitudini di vi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re i familiari che il loro interesse può influenzare l'abilità del paziente a compiere cambiamenti necessar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108000" y="189000"/>
            <a:ext cx="8964720" cy="5937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educativ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re il paziente sul tipo di terapia che dovrà autogesti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r capire al paziente che il rispetto di certe norme di vita è importan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r capire ai familiari che il loro interesse è molto importante per il pazi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0" y="229680"/>
            <a:ext cx="9144000" cy="67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GLIORAMENTO DELL'IMMAGINE DI SÉ</a:t>
            </a:r>
            <a:endParaRPr b="0" lang="en-US" sz="4000" spc="-1" strike="noStrike">
              <a:solidFill>
                <a:srgbClr val="000000"/>
              </a:solidFill>
              <a:latin typeface="Calibri"/>
            </a:endParaRPr>
          </a:p>
        </p:txBody>
      </p:sp>
      <p:sp>
        <p:nvSpPr>
          <p:cNvPr id="568" name=""/>
          <p:cNvSpPr txBox="1"/>
          <p:nvPr/>
        </p:nvSpPr>
        <p:spPr>
          <a:xfrm>
            <a:off x="179280" y="1197000"/>
            <a:ext cx="8893440" cy="4929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Obiettiv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vorire una riconciliazione tra il concetto della propria immagine e le alterazioni fisiche e psicologiche imposte dalla patologia reumatic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Indicat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l paziente ha una migliore immagine di se stes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108000" y="333000"/>
            <a:ext cx="8964720" cy="5792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tecn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icare gli elementi di controllo sui sintomi e il trattamento della malatt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servare del tempo per parlare tranquillamente con il pazien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icare i meccanismi di reazione efficac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re le reazioni emotive del pazi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179280" y="260280"/>
            <a:ext cx="8893440" cy="586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relazion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raggiare il paziente ad esprimere emozioni,  timori e sensazion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utare il paziente a valutare la situazione e i problemi d'identità.</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iegare al paziente che il concetto di sè può essere alterato dalla patologia o dal trattamento in at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24000" y="189000"/>
            <a:ext cx="8640720" cy="5937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spetto educativ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re il paziente sul fatto che la patologia può comportare cambiamenti del s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re il paziente sui cambiamenti fisici che può avere a causa della patolog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1420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UMATISMI INFIAMMATORI</a:t>
            </a:r>
            <a:endParaRPr b="0" lang="en-US" sz="4400" spc="-1" strike="noStrike">
              <a:solidFill>
                <a:srgbClr val="000000"/>
              </a:solidFill>
              <a:latin typeface="Calibri"/>
            </a:endParaRPr>
          </a:p>
        </p:txBody>
      </p:sp>
      <p:sp>
        <p:nvSpPr>
          <p:cNvPr id="507" name=""/>
          <p:cNvSpPr txBox="1"/>
          <p:nvPr/>
        </p:nvSpPr>
        <p:spPr>
          <a:xfrm>
            <a:off x="0" y="952560"/>
            <a:ext cx="9144000" cy="52848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Sono i più gravi, legati a meccanismi autoimmunitari, cioè sono causati dalla infiammazione che le cellule del nostro sistema di difesa portano a livello delle articolazioni e di altri tessuti.</a:t>
            </a:r>
            <a:br>
              <a:rPr sz="3000"/>
            </a:br>
            <a:r>
              <a:rPr b="0" lang="en-US" sz="3000" spc="-1" strike="noStrike">
                <a:solidFill>
                  <a:srgbClr val="000000"/>
                </a:solidFill>
                <a:latin typeface="Calibri"/>
              </a:rPr>
              <a:t>Queste cellule invadono i tessuti interessati, in particolare, la membrana sinoviale che riveste le articolazioni, causando la produzione di molecole infiammatorie (chiamate citochine) che a loro volta causano un' infiammazione (artrite), che a sua volta può portare a danni anche irreversibili della articolazione e dell’oss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LUTAZIONE</a:t>
            </a:r>
            <a:endParaRPr b="0" lang="en-US" sz="4400" spc="-1" strike="noStrike">
              <a:solidFill>
                <a:srgbClr val="000000"/>
              </a:solidFill>
              <a:latin typeface="Calibri"/>
            </a:endParaRPr>
          </a:p>
        </p:txBody>
      </p:sp>
      <p:sp>
        <p:nvSpPr>
          <p:cNvPr id="573" name=""/>
          <p:cNvSpPr txBox="1"/>
          <p:nvPr/>
        </p:nvSpPr>
        <p:spPr>
          <a:xfrm>
            <a:off x="250560" y="836640"/>
            <a:ext cx="8821800" cy="6021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Risultati attes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Il benessere del paziente è migliora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conosce i fattori che esasperano o influenzano la risposta del dolo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ica e usa le misure di gestione del dolor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Introduce nella sua vita giornaliera quelle pratiche che gli permettono di ridurre l'affaticamen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prime il rapporto tra fatica e attività patologic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ica e  utilizza misure per prevenire o modificare la fatica.</a:t>
            </a:r>
            <a:endParaRPr b="0" lang="en-US" sz="2800" spc="-1" strike="noStrike">
              <a:solidFill>
                <a:srgbClr val="000000"/>
              </a:solidFill>
              <a:latin typeface="Calibri"/>
            </a:endParaRPr>
          </a:p>
        </p:txBody>
      </p:sp>
      <p:pic>
        <p:nvPicPr>
          <p:cNvPr id="574" name="Picture 5" descr="https://media2.picsearch.com/is?yD97EhqaOWND23z8WBJKGcM3xOCNgu8PH0uWdOEbC9U&amp;height=255"/>
          <p:cNvPicPr/>
          <p:nvPr/>
        </p:nvPicPr>
        <p:blipFill>
          <a:blip r:embed="rId1"/>
          <a:stretch/>
        </p:blipFill>
        <p:spPr>
          <a:xfrm>
            <a:off x="7596360" y="0"/>
            <a:ext cx="1547640" cy="1074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Ottiene  e mantiene una  ottimale funzionalità delle articolazioni e una cura personale indipendente o utilizzando le risorse disponibili:</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ve e impiega misure per prevenire la perdita di mobilità.</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ica e utilizza metodi alternativi per soddisfare le sue necessità.</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a tecniche appropriate e/o mezzi di supporto per aiutare la mobilità articolar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Nota un miglioramento nella qualità del sonn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ica e usa tecniche per indurre o mantenere il sonno.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ica le terapie farmacologiche che aiutano il sonno e le impiega correttame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0" y="260280"/>
            <a:ext cx="9144000" cy="586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Possiede le informazioni necessarie sul processo della malattia e della terapia per intervenire attivamente nelle decisioni da prender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 Riesce a conciliare l'immagine di sé con le alterazioni prodotte dalla malatti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prime concetti di auto- stim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bilisce e realizza obiettivi significativi e realistic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iega metodi di comunicazione e di autogestione appropriat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50560" y="213840"/>
            <a:ext cx="8569080" cy="122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TTAMENTO DEL DOLORE NELL'ARTRITE REUMATOIDE</a:t>
            </a:r>
            <a:endParaRPr b="0" lang="en-US" sz="4000" spc="-1" strike="noStrike">
              <a:solidFill>
                <a:srgbClr val="000000"/>
              </a:solidFill>
              <a:latin typeface="Calibri"/>
            </a:endParaRPr>
          </a:p>
        </p:txBody>
      </p:sp>
      <p:sp>
        <p:nvSpPr>
          <p:cNvPr id="578" name=""/>
          <p:cNvSpPr txBox="1"/>
          <p:nvPr/>
        </p:nvSpPr>
        <p:spPr>
          <a:xfrm>
            <a:off x="-360" y="1699920"/>
            <a:ext cx="8893080" cy="4608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Non esiste un singolo trattamento che possa essere applicato genericamente, è necessario sviluppare un piano (equipe multidisciplinare) per contenere il dolore e migliorare la funzionalità delle articolazioni.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Diversi trattamenti possono essere utili ad alleviare il dolore in un tempo relativamente breve.</a:t>
            </a:r>
            <a:endParaRPr b="0" lang="en-US" sz="3200" spc="-1" strike="noStrike">
              <a:solidFill>
                <a:srgbClr val="000000"/>
              </a:solidFill>
              <a:latin typeface="Calibri"/>
            </a:endParaRPr>
          </a:p>
        </p:txBody>
      </p:sp>
      <p:pic>
        <p:nvPicPr>
          <p:cNvPr id="579" name="Picture 5" descr="https://media2.picsearch.com/is?yD97EhqaOWND23z8WBJKGcM3xOCNgu8PH0uWdOEbC9U&amp;height=255"/>
          <p:cNvPicPr/>
          <p:nvPr/>
        </p:nvPicPr>
        <p:blipFill>
          <a:blip r:embed="rId1"/>
          <a:stretch/>
        </p:blipFill>
        <p:spPr>
          <a:xfrm>
            <a:off x="7596360" y="0"/>
            <a:ext cx="1547640" cy="1074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250560" y="0"/>
            <a:ext cx="8893080" cy="68580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Medicinali:</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i-infiammatori non steroidei. </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Caldo e freddo:</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 pacco di ghiaccio avvolto in un fazzoletto e posizionato sull'area dolorante può aiutare a ridurre il gonfiore e il dolore. Se il paziente ha problemi di circolazione non usare il freddo. </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Protezione dell'articolazione: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are una stecca o un sostegno che permetta all'articolazione di riposare e la protegga dalle sollecitazioni può essere di aiuto in alcuni casi selezionati. Il fisioterapista saprà consigliare nella maniera miglio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250560" y="0"/>
            <a:ext cx="8821800" cy="6858000"/>
          </a:xfrm>
          <a:prstGeom prst="rect">
            <a:avLst/>
          </a:prstGeom>
          <a:noFill/>
          <a:ln w="0">
            <a:noFill/>
          </a:ln>
        </p:spPr>
        <p:txBody>
          <a:bodyPr anchor="t">
            <a:normAutofit/>
          </a:bodyPr>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    </a:t>
            </a:r>
            <a:r>
              <a:rPr b="0" lang="en-US" sz="2900" spc="-1" strike="noStrike">
                <a:solidFill>
                  <a:srgbClr val="000000"/>
                </a:solidFill>
                <a:latin typeface="Calibri"/>
              </a:rPr>
              <a:t>Trattamenti che apportano sollievo nel lungo periodo:</a:t>
            </a:r>
            <a:endParaRPr b="0" lang="en-US" sz="2900" spc="-1" strike="noStrike">
              <a:solidFill>
                <a:srgbClr val="000000"/>
              </a:solidFill>
              <a:latin typeface="Calibri"/>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    </a:t>
            </a:r>
            <a:r>
              <a:rPr b="1" lang="en-US" sz="2900" spc="-1" strike="noStrike">
                <a:solidFill>
                  <a:srgbClr val="000000"/>
                </a:solidFill>
                <a:latin typeface="Calibri"/>
              </a:rPr>
              <a:t>Medicinali: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I medicinali come i FANS o i corticosteroidi riducono l'infiammazione  articolare</a:t>
            </a:r>
            <a:endParaRPr b="0" lang="en-US" sz="2900" spc="-1" strike="noStrike">
              <a:solidFill>
                <a:srgbClr val="000000"/>
              </a:solidFill>
              <a:latin typeface="Calibri"/>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    </a:t>
            </a:r>
            <a:r>
              <a:rPr b="1" lang="en-US" sz="2900" spc="-1" strike="noStrike">
                <a:solidFill>
                  <a:srgbClr val="000000"/>
                </a:solidFill>
                <a:latin typeface="Calibri"/>
              </a:rPr>
              <a:t>Riduzione del peso corporeo: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Un eccesso di peso stressa ulteriormente le articolazioni, come le ginocchia o le anche, come dimostrato da più studi condotti nell'osteoartrosi. </a:t>
            </a:r>
            <a:endParaRPr b="0" lang="en-US" sz="2900" spc="-1" strike="noStrike">
              <a:solidFill>
                <a:srgbClr val="000000"/>
              </a:solidFill>
              <a:latin typeface="Calibri"/>
            </a:endParaRPr>
          </a:p>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    </a:t>
            </a:r>
            <a:r>
              <a:rPr b="1" lang="en-US" sz="2900" spc="-1" strike="noStrike">
                <a:solidFill>
                  <a:srgbClr val="000000"/>
                </a:solidFill>
                <a:latin typeface="Calibri"/>
              </a:rPr>
              <a:t>Esercizio: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Nuotare, camminare, o esercizi aerobici non stressanti  possono ridurre il dolore all'articolazione e la rigidità. Sono inoltre particolarmente indicati gli esercizi di stretching. Il fisioterapista può aiutare il paziente con esercizi mirati. </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71280" y="160200"/>
            <a:ext cx="8893440" cy="612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Intervento chirurgico: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 alcuni pazienti l'intervento chirurgico diviene necessario. Esso può servire a rimuovere una membrana sinoviale iperplastica o a riallineare un'articolazione;  in casi avanzati si può sostituire l'articolazione lesa con una artificiale (protes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La completa sostituzione dell'articolazione provvede non solo al sollievo dal dolore, ma apporta anche un miglioramento nel movimen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250560" y="404640"/>
            <a:ext cx="8435880" cy="5167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Massaggio: </a:t>
            </a:r>
            <a:endParaRPr b="0" lang="en-US" sz="32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l massaggio incrementa l'afflusso di sangue e porta calore all'area stressata.  Le articolazioni sofferenti di artrite sono molto sensibili per cui chi pratica il massaggio deve avere buone conoscenze della malattia e familiarità con il problem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24000" y="260280"/>
            <a:ext cx="8820000" cy="586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Elementi per la gestione del dolore artritic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Avere una dieta sana e variat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Dormire dalle otto alle dieci ore per not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enere un diario giornaliero del dolore e dei cambiamenti di umore da presenta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Iscriversi ad un gruppo di support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Tenersi aggiornato riguardo alle nuove ricerche relative alla gestione del dolore artritic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6360" y="-360"/>
            <a:ext cx="8964720" cy="6813720"/>
          </a:xfrm>
          <a:prstGeom prst="rect">
            <a:avLst/>
          </a:prstGeom>
          <a:noFill/>
          <a:ln w="0">
            <a:noFill/>
          </a:ln>
        </p:spPr>
        <p:txBody>
          <a:bodyPr anchor="t">
            <a:normAutofit fontScale="98000"/>
          </a:bodyPr>
          <a:p>
            <a:pPr marL="335880" indent="-3358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 principali reumatismi infiammatori sono:</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rtrite reumatoide; </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rtite psoriasica;</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 spondilite anchilosante; </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 connettiviti (LES, Sjogren, dermato-polimiosite, connettiviti indifferenziate e mista); </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asculiti.</a:t>
            </a:r>
            <a:endParaRPr b="0" lang="en-US" sz="3000" spc="-1" strike="noStrike">
              <a:solidFill>
                <a:srgbClr val="000000"/>
              </a:solidFill>
              <a:latin typeface="Calibri"/>
            </a:endParaRPr>
          </a:p>
          <a:p>
            <a:pPr marL="335880" indent="-335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000" spc="-1" strike="noStrike">
                <a:solidFill>
                  <a:srgbClr val="000000"/>
                </a:solidFill>
                <a:latin typeface="Calibri"/>
              </a:rPr>
              <a:t>La causa di questi reumatismi non è nota anche se si nota una familiarità (maggiore predisposizione familiare ad essere ammalati) non necessariamente della stessa malattia.</a:t>
            </a:r>
            <a:br>
              <a:rPr sz="3000"/>
            </a:br>
            <a:r>
              <a:rPr b="0" lang="en-US" sz="3000" spc="-1" strike="noStrike">
                <a:solidFill>
                  <a:srgbClr val="000000"/>
                </a:solidFill>
                <a:latin typeface="Calibri"/>
              </a:rPr>
              <a:t>Ciò significa che possiamo avere componenti di una famiglia che hanno l’ artrite reumatoide, altri il LES o il diabete o altre malattie autoimmuni.</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28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UMATISMO DEGENERATIVO</a:t>
            </a:r>
            <a:endParaRPr b="0" lang="en-US" sz="4400" spc="-1" strike="noStrike">
              <a:solidFill>
                <a:srgbClr val="000000"/>
              </a:solidFill>
              <a:latin typeface="Calibri"/>
            </a:endParaRPr>
          </a:p>
        </p:txBody>
      </p:sp>
      <p:sp>
        <p:nvSpPr>
          <p:cNvPr id="510" name=""/>
          <p:cNvSpPr txBox="1"/>
          <p:nvPr/>
        </p:nvSpPr>
        <p:spPr>
          <a:xfrm>
            <a:off x="36360" y="1197000"/>
            <a:ext cx="8964720" cy="5400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Il principale reumatismo degenerativo è l’artrosi.</a:t>
            </a:r>
            <a:br>
              <a:rPr sz="3200"/>
            </a:br>
            <a:r>
              <a:rPr b="0" lang="en-US" sz="3200" spc="-1" strike="noStrike">
                <a:solidFill>
                  <a:srgbClr val="000000"/>
                </a:solidFill>
                <a:latin typeface="Calibri"/>
              </a:rPr>
              <a:t>E’una malattia degenerativa cronica caratterizzata da lesioni a carico delle articolazioni (si forma nuovo osso e l’articolazione si ingrossa).</a:t>
            </a:r>
            <a:br>
              <a:rPr sz="3200"/>
            </a:br>
            <a:r>
              <a:rPr b="0" lang="en-US" sz="3200" spc="-1" strike="noStrike">
                <a:solidFill>
                  <a:srgbClr val="000000"/>
                </a:solidFill>
                <a:latin typeface="Calibri"/>
              </a:rPr>
              <a:t>E’ legata ad uno squilibrio tra eccesso di danno cartilagineo e capacità della cartilagine di “guarirlo”; non è un malattia della sola cartilagine ma compromette tutta l’articolazione e l’osso.</a:t>
            </a:r>
            <a:br>
              <a:rPr sz="3200"/>
            </a:br>
            <a:r>
              <a:rPr b="0" lang="en-US" sz="3200" spc="-1" strike="noStrike">
                <a:solidFill>
                  <a:srgbClr val="000000"/>
                </a:solidFill>
                <a:latin typeface="Calibri"/>
              </a:rPr>
              <a:t>E’ il reumatismo più frequente nella popolazi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0" y="404640"/>
            <a:ext cx="9144000" cy="6453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I FATTORI DI RISCHIO SONO:</a:t>
            </a:r>
            <a:endParaRPr b="0" lang="en-US" sz="32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à (invecchiando la nostra cartilagine di per sé peggio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ttori meccanici (malformazioni, instabilità articolari, particolari lavori usuranti o attività sportive eccessive, traum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besità (aumenta il carico specie sulle ginocch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infiammazione (pazienti con artriti sono piu’ a risch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ttori genetici (specie per la man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4740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UMATISMI METABOLICI</a:t>
            </a:r>
            <a:endParaRPr b="0" lang="en-US" sz="4400" spc="-1" strike="noStrike">
              <a:solidFill>
                <a:srgbClr val="000000"/>
              </a:solidFill>
              <a:latin typeface="Calibri"/>
            </a:endParaRPr>
          </a:p>
        </p:txBody>
      </p:sp>
      <p:sp>
        <p:nvSpPr>
          <p:cNvPr id="513" name=""/>
          <p:cNvSpPr txBox="1"/>
          <p:nvPr/>
        </p:nvSpPr>
        <p:spPr>
          <a:xfrm>
            <a:off x="243000" y="1235160"/>
            <a:ext cx="8686800" cy="5433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Il più frequente è la gotta, causata dal deposito di cristalli di acido urico nelle articolazioni con conseguente infiammazione.</a:t>
            </a:r>
            <a:br>
              <a:rPr sz="3200"/>
            </a:br>
            <a:r>
              <a:rPr b="0" lang="en-US" sz="3200" spc="-1" strike="noStrike">
                <a:solidFill>
                  <a:srgbClr val="000000"/>
                </a:solidFill>
                <a:latin typeface="Calibri"/>
              </a:rPr>
              <a:t>La gotta colpisce in particolare persone con dismetabolismo, persone cioè in sovrappeso o obese, con dislipidemie, alterazione della tolleranza al glucosio o diabete, spesso con consumo eccessivo di alcool ed alimentazione ricca in carni rosse e frattagl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anco</dc:creator>
  <dc:description/>
  <dc:language>en-US</dc:language>
  <cp:lastModifiedBy>Franco</cp:lastModifiedBy>
  <dcterms:modified xsi:type="dcterms:W3CDTF">2021-05-02T08:20:57Z</dcterms:modified>
  <cp:revision>55</cp:revision>
  <dc:subject/>
  <dc:title>MALATTIE REUMATICHE</dc:title>
</cp:coreProperties>
</file>