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707D3-2944-4F68-9EA8-B728B9966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96F4-6D58-4804-BEAA-B40608BA5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9E60E-3E89-4155-AD53-90A4CCF85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0EA82-8EF5-4575-980A-C025BA10E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54AC1-B4EC-4434-BAD9-511F95CC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FD43-6CF0-4D8B-9A13-8B7E7AB2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90EB2-61FC-414E-8F39-FC1543F7D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FC22-E97E-421A-9B11-6A146F597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EAB57-D40D-46D7-92DA-EFE64E74B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D4D3-2FD1-44D2-A372-EC80CFFA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23BB3-3432-42FD-9773-A6AE7B6A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4D8C-1666-4B42-B0B1-F7A86C249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EC6A-26F4-49A3-B738-A8596BC6803F}"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8D76-F2F6-4D0B-A053-5B7B4567E03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15920"/>
            <a:ext cx="8748720" cy="12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Calibri"/>
              </a:rPr>
              <a:t>IL PAZIENTE EMATOLOGICO</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898989"/>
              </a:solidFill>
              <a:latin typeface="Calibri"/>
            </a:endParaRPr>
          </a:p>
        </p:txBody>
      </p:sp>
      <p:pic>
        <p:nvPicPr>
          <p:cNvPr id="43" name="Picture 6" descr="https://media3.picsearch.com/is?_6A_8iEkYRqS3eyppSTYPJoVl0pwLmW9AlVzAuDGkm4&amp;height=190"/>
          <p:cNvPicPr/>
          <p:nvPr/>
        </p:nvPicPr>
        <p:blipFill>
          <a:blip r:embed="rId1"/>
          <a:stretch/>
        </p:blipFill>
        <p:spPr>
          <a:xfrm>
            <a:off x="0" y="1308240"/>
            <a:ext cx="9144000" cy="528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29960"/>
            <a:ext cx="7570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72"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licanz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umento dei livelli ematici di acido urico, potassio e fosfati per li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Formazione di calcoli e coliche rena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nsufficienza renale acu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Aritmie cardiache, ipotensi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sturbi neuromuscolar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roblemi gastrointestinal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nfezion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anguinamen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3"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7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758B-83E9-4562-A2DA-CBEFE5CB994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1280" y="202680"/>
            <a:ext cx="77407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CA MIELOIDE CRONICA</a:t>
            </a:r>
            <a:endParaRPr b="0" lang="en-US" sz="4400" spc="-1" strike="noStrike">
              <a:solidFill>
                <a:srgbClr val="000000"/>
              </a:solidFill>
              <a:latin typeface="Calibri"/>
            </a:endParaRPr>
          </a:p>
        </p:txBody>
      </p:sp>
      <p:sp>
        <p:nvSpPr>
          <p:cNvPr id="76" name=""/>
          <p:cNvSpPr txBox="1"/>
          <p:nvPr/>
        </p:nvSpPr>
        <p:spPr>
          <a:xfrm>
            <a:off x="0" y="1341360"/>
            <a:ext cx="8686800" cy="511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a produzione di cellule mieloidi normali continua, ma prevalgono quelle immature. Il midollo osseo si espande, occupando le cavità delle ossa lunghe, e l’ematopoiesi ha luogo anche nel fegato e nella milza, che si ingrossano provocando dolo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Colpisce prevalentemente pazienti tra i 40 e 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50 anni di età. </a:t>
            </a:r>
            <a:endParaRPr b="0" lang="en-US" sz="3200" spc="-1" strike="noStrike">
              <a:solidFill>
                <a:srgbClr val="000000"/>
              </a:solidFill>
              <a:latin typeface="Calibri"/>
            </a:endParaRPr>
          </a:p>
        </p:txBody>
      </p:sp>
      <p:pic>
        <p:nvPicPr>
          <p:cNvPr id="77"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7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7BB9-5A4B-4C44-878A-59C56F69891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4920" y="189000"/>
            <a:ext cx="78501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CRONICA</a:t>
            </a:r>
            <a:endParaRPr b="0" lang="en-US" sz="4400" spc="-1" strike="noStrike">
              <a:solidFill>
                <a:srgbClr val="000000"/>
              </a:solidFill>
              <a:latin typeface="Calibri"/>
            </a:endParaRPr>
          </a:p>
        </p:txBody>
      </p:sp>
      <p:sp>
        <p:nvSpPr>
          <p:cNvPr id="80" name=""/>
          <p:cNvSpPr txBox="1"/>
          <p:nvPr/>
        </p:nvSpPr>
        <p:spPr>
          <a:xfrm>
            <a:off x="0" y="1413000"/>
            <a:ext cx="9144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ifestazioni cliniche</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Generalmente è asistomatica, e la diagnosi viene fatta quando occasionalmente si rileva leucocito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gt; 100000/mm</a:t>
            </a:r>
            <a:r>
              <a:rPr b="0" lang="it-IT" sz="1900" spc="-1" strike="noStrike">
                <a:solidFill>
                  <a:srgbClr val="000000"/>
                </a:solidFill>
                <a:latin typeface="Calibri"/>
              </a:rPr>
              <a:t>3</a:t>
            </a:r>
            <a:r>
              <a:rPr b="0" lang="it-IT" sz="3200" spc="-1" strike="noStrike">
                <a:solidFill>
                  <a:srgbClr val="000000"/>
                </a:solidFill>
                <a:latin typeface="Calibri"/>
              </a:rPr>
              <a:t>). Può essere presente tachipnea e lieve confusione mentale. Milza e fegato possono essere ingrossati. Può esserci anoressia, perdita di peso,malessere generale. Con il progredire della malattia la sintomatologia si fa più rileva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8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2309-2325-4089-ADFA-3307C5C4F2B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4920" y="58320"/>
            <a:ext cx="79423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CRONICA</a:t>
            </a:r>
            <a:endParaRPr b="0" lang="en-US" sz="4400" spc="-1" strike="noStrike">
              <a:solidFill>
                <a:srgbClr val="000000"/>
              </a:solidFill>
              <a:latin typeface="Calibri"/>
            </a:endParaRPr>
          </a:p>
        </p:txBody>
      </p:sp>
      <p:sp>
        <p:nvSpPr>
          <p:cNvPr id="84" name=""/>
          <p:cNvSpPr txBox="1"/>
          <p:nvPr/>
        </p:nvSpPr>
        <p:spPr>
          <a:xfrm>
            <a:off x="0" y="980640"/>
            <a:ext cx="9144000" cy="5761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ttamen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 chemioterapici vengono utilizzati per ridurre il numero di leucociti verso valori più accettabili. A tale scopo, in caso di grave leucocitosi, si può effettuare la leucofere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Nella fase cronica è possibile un successo terapeutico con il trapianto di midollo osseo, eseguibile nei pazienti sotto i 70 anni e che non siano affetti da altre patologie.</a:t>
            </a:r>
            <a:endParaRPr b="0" lang="en-US" sz="3200" spc="-1" strike="noStrike">
              <a:solidFill>
                <a:srgbClr val="000000"/>
              </a:solidFill>
              <a:latin typeface="Calibri"/>
            </a:endParaRPr>
          </a:p>
        </p:txBody>
      </p:sp>
      <p:pic>
        <p:nvPicPr>
          <p:cNvPr id="85"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8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96A9-C737-4006-B3F8-852BD1CA02B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4560" y="203040"/>
            <a:ext cx="79930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ACUTA</a:t>
            </a:r>
            <a:endParaRPr b="0" lang="en-US" sz="4400" spc="-1" strike="noStrike">
              <a:solidFill>
                <a:srgbClr val="000000"/>
              </a:solidFill>
              <a:latin typeface="Calibri"/>
            </a:endParaRPr>
          </a:p>
        </p:txBody>
      </p:sp>
      <p:sp>
        <p:nvSpPr>
          <p:cNvPr id="88" name=""/>
          <p:cNvSpPr txBox="1"/>
          <p:nvPr/>
        </p:nvSpPr>
        <p:spPr>
          <a:xfrm>
            <a:off x="0" y="1341000"/>
            <a:ext cx="9144000" cy="547236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700" spc="-1" strike="noStrike">
                <a:solidFill>
                  <a:srgbClr val="000000"/>
                </a:solidFill>
                <a:latin typeface="Calibri"/>
              </a:rPr>
              <a:t>E’ dovuta ad una proliferazione di linfoblasti dalle cellule staminali linfoidi. Nel 75% dei casi  interessa le cellule precursori dei linfociti B,mentre il 25% interessa i precursori dei linfociti T.</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Colpisce i bambini al di sotto dei 15 anni. Le terapie consentono la remissione della malattia con sopravvivenza oltre i 5 anni per l’80% dei casi.</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Manifestazioni cliniche. Anemia, leucopenia, trombocitopenia, con presenza di elevato numero di cellule leucocitarie immature. In caso di infiltrazione delle cellule leucemiche in altri organi, si ha splenomegalia, epatomegalia, dolore osseo, cefalea e vomito.</a:t>
            </a:r>
            <a:endParaRPr b="0" lang="en-US" sz="2700" spc="-1" strike="noStrike">
              <a:solidFill>
                <a:srgbClr val="000000"/>
              </a:solidFill>
              <a:latin typeface="Calibri"/>
            </a:endParaRPr>
          </a:p>
        </p:txBody>
      </p:sp>
      <p:pic>
        <p:nvPicPr>
          <p:cNvPr id="89"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9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226D-EEE8-40C1-B67D-78F1844BC65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4920" y="115560"/>
            <a:ext cx="80661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ACUTA</a:t>
            </a:r>
            <a:endParaRPr b="0" lang="en-US" sz="4400" spc="-1" strike="noStrike">
              <a:solidFill>
                <a:srgbClr val="000000"/>
              </a:solidFill>
              <a:latin typeface="Calibri"/>
            </a:endParaRPr>
          </a:p>
        </p:txBody>
      </p:sp>
      <p:sp>
        <p:nvSpPr>
          <p:cNvPr id="92" name=""/>
          <p:cNvSpPr txBox="1"/>
          <p:nvPr/>
        </p:nvSpPr>
        <p:spPr>
          <a:xfrm>
            <a:off x="0" y="1341360"/>
            <a:ext cx="9144000" cy="51832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rattament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Corticosteroidi e alcaloidi della vinca vengono utilizzati in fase di induzione della chemioterapi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Per combattere l’infiltrazione nel SNC viene effettuata l’irradiazione del cranio, oppure la chemioterapia intratecal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ella fase di mantenimento i farmaci vengono somministrati a dosi minori.</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Il trapianto di midollo osseo o di cellule staminali offre la possibilità di remissione o perfino di guarigione</a:t>
            </a:r>
            <a:endParaRPr b="0" lang="en-US" sz="3000" spc="-1" strike="noStrike">
              <a:solidFill>
                <a:srgbClr val="000000"/>
              </a:solidFill>
              <a:latin typeface="Calibri"/>
            </a:endParaRPr>
          </a:p>
        </p:txBody>
      </p:sp>
      <p:pic>
        <p:nvPicPr>
          <p:cNvPr id="93"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9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378C-C892-4F33-BB7E-583695D7355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920" y="115920"/>
            <a:ext cx="76327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CRONICA</a:t>
            </a:r>
            <a:endParaRPr b="0" lang="en-US" sz="4400" spc="-1" strike="noStrike">
              <a:solidFill>
                <a:srgbClr val="000000"/>
              </a:solidFill>
              <a:latin typeface="Calibri"/>
            </a:endParaRPr>
          </a:p>
        </p:txBody>
      </p:sp>
      <p:sp>
        <p:nvSpPr>
          <p:cNvPr id="96" name=""/>
          <p:cNvSpPr txBox="1"/>
          <p:nvPr/>
        </p:nvSpPr>
        <p:spPr>
          <a:xfrm>
            <a:off x="0" y="1341000"/>
            <a:ext cx="9144000" cy="52563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 la forma di leucemia più comune, e colpisce gli  anziani ultrasessantenni. La sopravvivenza vada 2,5 a 14 anni.</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E’ causata da un clone maligno dei linfociti B, molte cellule leucemiche appaiono completamente mature.</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Generalmente è asintomatica e la diagnosi è occasionale. E’ sempre presente linfocitosi, linfoadenopatia e splenomegalia. Può esserci febbre, sudorazione intensa, perdita di pes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Il paziente è soggetto ad infezioni, anche virali,e scarsa sensibilità alle prove cutanee (anergi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97"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9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32E2-E990-4C33-A508-A7F7800C29A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4560" y="43920"/>
            <a:ext cx="7777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LINFATICA CRONICA</a:t>
            </a:r>
            <a:endParaRPr b="0" lang="en-US" sz="4400" spc="-1" strike="noStrike">
              <a:solidFill>
                <a:srgbClr val="000000"/>
              </a:solidFill>
              <a:latin typeface="Calibri"/>
            </a:endParaRPr>
          </a:p>
        </p:txBody>
      </p:sp>
      <p:sp>
        <p:nvSpPr>
          <p:cNvPr id="100" name=""/>
          <p:cNvSpPr txBox="1"/>
          <p:nvPr/>
        </p:nvSpPr>
        <p:spPr>
          <a:xfrm>
            <a:off x="0" y="1270080"/>
            <a:ext cx="9144000" cy="54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ttamen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Oltre ai chemioterapici, efficace si è dimostrato il trattamento con anticorpi monoclon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Tutti questi farmaci hanno effetto anche sulla produzione delle cellule sane nel midollo osseo, e di pazienti sono esposti ad infezion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 volte si ricorre alla somministrazione di antibiotici e antivirali o di immunoglobuline a scopo profilattico</a:t>
            </a:r>
            <a:endParaRPr b="0" lang="en-US" sz="3200" spc="-1" strike="noStrike">
              <a:solidFill>
                <a:srgbClr val="000000"/>
              </a:solidFill>
              <a:latin typeface="Calibri"/>
            </a:endParaRPr>
          </a:p>
        </p:txBody>
      </p:sp>
      <p:pic>
        <p:nvPicPr>
          <p:cNvPr id="101"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10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2DFA-2103-4DDE-855D-5CC79023BD1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04" name=""/>
          <p:cNvSpPr txBox="1"/>
          <p:nvPr/>
        </p:nvSpPr>
        <p:spPr>
          <a:xfrm>
            <a:off x="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gestione degli accessi veno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sicurezza de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trattamento antalg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terapia antiblastica, per quanto riguarda la somministrazione e gli aspetti di prevenzione dei rischi di esposizione profess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reparazione all'intervento chirurgico.</a:t>
            </a:r>
            <a:endParaRPr b="0" lang="en-US" sz="3200" spc="-1" strike="noStrike">
              <a:solidFill>
                <a:srgbClr val="000000"/>
              </a:solidFill>
              <a:latin typeface="Calibri"/>
            </a:endParaRPr>
          </a:p>
        </p:txBody>
      </p:sp>
      <p:pic>
        <p:nvPicPr>
          <p:cNvPr id="105" name="Picture 5" descr="https://media2.picsearch.com/is?yD97EhqaOWND23z8WBJKGcM3xOCNgu8PH0uWdOEbC9U&amp;height=255"/>
          <p:cNvPicPr/>
          <p:nvPr/>
        </p:nvPicPr>
        <p:blipFill>
          <a:blip r:embed="rId1"/>
          <a:stretch/>
        </p:blipFill>
        <p:spPr>
          <a:xfrm>
            <a:off x="6640560" y="1486080"/>
            <a:ext cx="2503440" cy="1871640"/>
          </a:xfrm>
          <a:prstGeom prst="rect">
            <a:avLst/>
          </a:prstGeom>
          <a:ln w="0">
            <a:noFill/>
          </a:ln>
        </p:spPr>
      </p:pic>
      <p:sp>
        <p:nvSpPr>
          <p:cNvPr id="10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4FD4-F5E8-415C-86C4-B7187274135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7640" y="115920"/>
            <a:ext cx="7426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08" name=""/>
          <p:cNvSpPr txBox="1"/>
          <p:nvPr/>
        </p:nvSpPr>
        <p:spPr>
          <a:xfrm>
            <a:off x="0" y="1196640"/>
            <a:ext cx="9144000" cy="5545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ccertament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Poiché inizialmente i segni e sintomi della malattia sono subdoli, è importante effettuare un accertamento scrupoloso di tutti gli organi/apparati. Possono essere presenti i sintomi di infezione polmonare, linfoadenopatia. Se i valori piastrinici sono bassi c’è un significativo rischio di sanguinamento.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Vanno monitorati i valori della conta leucocitaria, l’ematocrito, le piastrine, la creatinina, gli elettroliti e la funzionalità epatica. Gli accertamenti colturali vanno attuati tempestivamente in caso di sospetto di infezione.</a:t>
            </a:r>
            <a:endParaRPr b="0" lang="en-US" sz="3000" spc="-1" strike="noStrike">
              <a:solidFill>
                <a:srgbClr val="000000"/>
              </a:solidFill>
              <a:latin typeface="Calibri"/>
            </a:endParaRPr>
          </a:p>
        </p:txBody>
      </p:sp>
      <p:pic>
        <p:nvPicPr>
          <p:cNvPr id="109" name="Picture 5" descr="https://media2.picsearch.com/is?yD97EhqaOWND23z8WBJKGcM3xOCNgu8PH0uWdOEbC9U&amp;height=255"/>
          <p:cNvPicPr/>
          <p:nvPr/>
        </p:nvPicPr>
        <p:blipFill>
          <a:blip r:embed="rId1"/>
          <a:stretch/>
        </p:blipFill>
        <p:spPr>
          <a:xfrm>
            <a:off x="7308720" y="0"/>
            <a:ext cx="1835280" cy="1484280"/>
          </a:xfrm>
          <a:prstGeom prst="rect">
            <a:avLst/>
          </a:prstGeom>
          <a:ln w="0">
            <a:noFill/>
          </a:ln>
        </p:spPr>
      </p:pic>
      <p:sp>
        <p:nvSpPr>
          <p:cNvPr id="11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1278-8906-433F-9BD5-D4EE105D827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71280" y="907560"/>
            <a:ext cx="8893440" cy="4537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a:t>
            </a:r>
            <a:r>
              <a:rPr b="1" lang="it-IT" sz="3200" spc="-1" strike="noStrike">
                <a:solidFill>
                  <a:srgbClr val="000000"/>
                </a:solidFill>
                <a:latin typeface="Calibri"/>
              </a:rPr>
              <a:t>ematologia</a:t>
            </a:r>
            <a:r>
              <a:rPr b="0" lang="it-IT" sz="3200" spc="-1" strike="noStrike">
                <a:solidFill>
                  <a:srgbClr val="000000"/>
                </a:solidFill>
                <a:latin typeface="Calibri"/>
              </a:rPr>
              <a:t> è una branca della medicina interna che si occupa del sangue e degli organi che compongono il sistema emopoietico. L'</a:t>
            </a:r>
            <a:r>
              <a:rPr b="1" lang="it-IT" sz="3200" spc="-1" strike="noStrike">
                <a:solidFill>
                  <a:srgbClr val="000000"/>
                </a:solidFill>
                <a:latin typeface="Calibri"/>
              </a:rPr>
              <a:t>ematologo</a:t>
            </a:r>
            <a:r>
              <a:rPr b="0" lang="it-IT" sz="3200" spc="-1" strike="noStrike">
                <a:solidFill>
                  <a:srgbClr val="000000"/>
                </a:solidFill>
                <a:latin typeface="Calibri"/>
              </a:rPr>
              <a:t> studia le cause, la diagnosi, il trattamento, la prognosi e la prevenzione delle malattie del sangue.</a:t>
            </a:r>
            <a:endParaRPr b="0" lang="en-US" sz="3200" spc="-1" strike="noStrike">
              <a:solidFill>
                <a:srgbClr val="000000"/>
              </a:solidFill>
              <a:latin typeface="Calibri"/>
            </a:endParaRPr>
          </a:p>
        </p:txBody>
      </p:sp>
      <p:sp>
        <p:nvSpPr>
          <p:cNvPr id="4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C99B-11E0-4447-AF65-53B6575D2CC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4" descr="https://www.centromedicocervia.it/wp-content/uploads/2018/12/ematologia.jpg"/>
          <p:cNvPicPr/>
          <p:nvPr/>
        </p:nvPicPr>
        <p:blipFill>
          <a:blip r:embed="rId1"/>
          <a:stretch/>
        </p:blipFill>
        <p:spPr>
          <a:xfrm>
            <a:off x="1476360" y="4487760"/>
            <a:ext cx="5975280" cy="196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763272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12" name=""/>
          <p:cNvSpPr txBox="1"/>
          <p:nvPr/>
        </p:nvSpPr>
        <p:spPr>
          <a:xfrm>
            <a:off x="0" y="836640"/>
            <a:ext cx="9144000" cy="59500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agnosi infermieristich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schio di infezione ed emorrag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schio di compromissione dell’integrità cutanea correlata a chemioterapia, nutrizione alterata, compromissione della mobilità.</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romissione degli scambi gasso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mpromissione delle mucose correlata a chemioterap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Nutrizione inferiore al fabbisogno correlata ad anoressia, nausea, dolore, mucosit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olore acut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Ipertermia correlata a chemioterapia ed infezion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Fatig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Diarrea correlata a chemioterap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Rischio di insufficiente volume di liquidi correlata a diarrea, emorragia, infezioni, aumento del metabolismo.</a:t>
            </a:r>
            <a:endParaRPr b="0" lang="en-US" sz="2700" spc="-1" strike="noStrike">
              <a:solidFill>
                <a:srgbClr val="000000"/>
              </a:solidFill>
              <a:latin typeface="Calibri"/>
            </a:endParaRPr>
          </a:p>
        </p:txBody>
      </p:sp>
      <p:pic>
        <p:nvPicPr>
          <p:cNvPr id="113"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1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1A2E-1B4C-438C-93C3-286DE4A0708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115920"/>
            <a:ext cx="76438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16" name=""/>
          <p:cNvSpPr txBox="1"/>
          <p:nvPr/>
        </p:nvSpPr>
        <p:spPr>
          <a:xfrm>
            <a:off x="-360" y="1267920"/>
            <a:ext cx="8937720" cy="525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biettiv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ssenza di complican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trollo del dol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tenimento di un apporto nutrizionale adegua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duzione della fatigue e ripresa dell’attività fi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tenimento del bilancio idroelettrolit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iglioramento della cura di s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umento del benessere spirituale</a:t>
            </a:r>
            <a:endParaRPr b="0" lang="en-US" sz="3200" spc="-1" strike="noStrike">
              <a:solidFill>
                <a:srgbClr val="000000"/>
              </a:solidFill>
              <a:latin typeface="Calibri"/>
            </a:endParaRPr>
          </a:p>
        </p:txBody>
      </p:sp>
      <p:pic>
        <p:nvPicPr>
          <p:cNvPr id="117"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1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6B41-89C9-4651-990A-46E55692DA7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4280"/>
            <a:ext cx="77151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20" name=""/>
          <p:cNvSpPr txBox="1"/>
          <p:nvPr/>
        </p:nvSpPr>
        <p:spPr>
          <a:xfrm>
            <a:off x="0" y="836640"/>
            <a:ext cx="9144000" cy="6021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ntervent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venzione delle complicanze (Infezion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ulizia accurata degli ambienti e sostituzione dell’acqua degli umidificatori ogni giorno, stanza singola per il paziente se neutrofili&lt;1000 mm</a:t>
            </a:r>
            <a:r>
              <a:rPr b="0" lang="it-IT" sz="1700" spc="-1" strike="noStrike">
                <a:solidFill>
                  <a:srgbClr val="000000"/>
                </a:solidFill>
                <a:latin typeface="Calibri"/>
              </a:rPr>
              <a:t>3</a:t>
            </a:r>
            <a:r>
              <a:rPr b="0" lang="it-IT"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vitare contatto con persone con Infezioni Virali Acu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Evitare il contatto con fiori e altri oggetti non essenzial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ieta con alimenti cotti, a bassa carica microbic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avorire la respirazione efficace e la mobilizzazion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Garantire l’igiene giornaliera del corpo, quella della zona perineale ad ogni evacuazione, l’igiene orale dopo ogni pasto;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trollare assiduamente i punti di accesso dei cateteri venosi (Sanguinamento). </a:t>
            </a:r>
            <a:endParaRPr b="0" lang="en-US" sz="3000" spc="-1" strike="noStrike">
              <a:solidFill>
                <a:srgbClr val="000000"/>
              </a:solidFill>
              <a:latin typeface="Calibri"/>
            </a:endParaRPr>
          </a:p>
        </p:txBody>
      </p:sp>
      <p:pic>
        <p:nvPicPr>
          <p:cNvPr id="121" name="Picture 5" descr="https://media2.picsearch.com/is?yD97EhqaOWND23z8WBJKGcM3xOCNgu8PH0uWdOEbC9U&amp;height=255"/>
          <p:cNvPicPr/>
          <p:nvPr/>
        </p:nvPicPr>
        <p:blipFill>
          <a:blip r:embed="rId1"/>
          <a:stretch/>
        </p:blipFill>
        <p:spPr>
          <a:xfrm>
            <a:off x="7419960" y="0"/>
            <a:ext cx="1724040" cy="1125360"/>
          </a:xfrm>
          <a:prstGeom prst="rect">
            <a:avLst/>
          </a:prstGeom>
          <a:ln w="0">
            <a:noFill/>
          </a:ln>
        </p:spPr>
      </p:pic>
      <p:sp>
        <p:nvSpPr>
          <p:cNvPr id="12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D410-C4FE-4C78-8D0B-FB1BC0ED2B9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43920"/>
            <a:ext cx="9144000" cy="6813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somministrare FANS e farmaci per via i.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inserire cateteri a permanenza;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la stipsi utilizzare lassativi orali;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utilizzare filo interdentale, scegliere uno spazzolino con setole morbide;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e le gengive sanguinano, pulirle con una spugnetta;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are lubrificanti per labbra;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vitare di tossire o soffiare il naso violentemente;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are il rasoio elettrico;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are le sponde del letto imbottite se necessario;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ttuare le procedure di prevenzione delle cadute.</a:t>
            </a:r>
            <a:endParaRPr b="0" lang="en-US" sz="3200" spc="-1" strike="noStrike">
              <a:solidFill>
                <a:srgbClr val="000000"/>
              </a:solidFill>
              <a:latin typeface="Calibri"/>
            </a:endParaRPr>
          </a:p>
        </p:txBody>
      </p:sp>
      <p:sp>
        <p:nvSpPr>
          <p:cNvPr id="124"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4271-6242-4B65-8E58-E3994C7D9E8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560" y="-360"/>
            <a:ext cx="7705800" cy="69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26" name=""/>
          <p:cNvSpPr txBox="1"/>
          <p:nvPr/>
        </p:nvSpPr>
        <p:spPr>
          <a:xfrm>
            <a:off x="-360" y="692280"/>
            <a:ext cx="9107640" cy="61927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revenzione delle complicanze (mucosi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esame attento e puntuale di tutta la mucosa orale (palato, bocca, lingua, zona sublinguale, gengive,orofaringe) per evidenziare lesioni e stato di idratazion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Effettuare interventi di igiene orale con spazzolino morbido o spugnetta e fisiologica con bicarbonato o colluttori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Particolare attenzione deve essere posta all’igiene perineale  controllando la frequenza delle evacuazioni e la consistenza delle feci, asciugando accuratamente la zona dopo la puliz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Mantenere un adeguato stato nutrizionale garantendo l’igiene orale prima e dopo i pasti, somministrando antiemetici e analgesici per favorire la masticazione, fornire pasti piccoli e frequenti non troppo caldi ne’ freddi, a basso contenuto batterico;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Controllare giornalmente peso corporeo, bilancio idrico e ricorrere a supplementi dietetici o a nutrizione clinica se necessario, dietro prescrizione medica.</a:t>
            </a:r>
            <a:endParaRPr b="0" lang="en-US" sz="2700" spc="-1" strike="noStrike">
              <a:solidFill>
                <a:srgbClr val="000000"/>
              </a:solidFill>
              <a:latin typeface="Calibri"/>
            </a:endParaRPr>
          </a:p>
        </p:txBody>
      </p:sp>
      <p:pic>
        <p:nvPicPr>
          <p:cNvPr id="127" name="Picture 5" descr="https://media2.picsearch.com/is?yD97EhqaOWND23z8WBJKGcM3xOCNgu8PH0uWdOEbC9U&amp;height=255"/>
          <p:cNvPicPr/>
          <p:nvPr/>
        </p:nvPicPr>
        <p:blipFill>
          <a:blip r:embed="rId1"/>
          <a:stretch/>
        </p:blipFill>
        <p:spPr>
          <a:xfrm>
            <a:off x="7812000" y="0"/>
            <a:ext cx="1332000" cy="996840"/>
          </a:xfrm>
          <a:prstGeom prst="rect">
            <a:avLst/>
          </a:prstGeom>
          <a:ln w="0">
            <a:noFill/>
          </a:ln>
        </p:spPr>
      </p:pic>
      <p:sp>
        <p:nvSpPr>
          <p:cNvPr id="12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4A2C-A19A-4F47-A820-73795FD9243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4560" y="-27360"/>
            <a:ext cx="7653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30" name=""/>
          <p:cNvSpPr txBox="1"/>
          <p:nvPr/>
        </p:nvSpPr>
        <p:spPr>
          <a:xfrm>
            <a:off x="0" y="620280"/>
            <a:ext cx="9144000" cy="626436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Alleviare il dolore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Valutazione giornaliera della presenza, intensità, sede e durata del dolore (scale di valutazione del dolore).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omministrare farmaci analgesici come da protocollo;</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avorire il riposo notturno;</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duzione della fatigue. Garantire un’alternanza bilanciata di attività-riposo;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Proporre l’uso di maschere filtranti per consentire di passeggiare fuori della stanza di degenza, fornire cyclette;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Attivare il servizio di FK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Mantenimento del Bilancio Idrico.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Episodi febbrili, sanguinamento, apporto insufficiente di liquidi, diarrea, vomito, uso prolungato di antibiotici possono alterare l’equilibrio idrico e di elettroliti. Deve essere monitorato il Bilancio Idrico e i livelli sierici di elettroliti, creatinina, azotemia,ematocrito. Può essere necessario somministrare potassio e magnesio dietro prescrizione medica.</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31"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
        <p:nvSpPr>
          <p:cNvPr id="13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343D-0FEC-4B21-AF9E-5144F16DE0F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4560" y="43920"/>
            <a:ext cx="7356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34" name=""/>
          <p:cNvSpPr txBox="1"/>
          <p:nvPr/>
        </p:nvSpPr>
        <p:spPr>
          <a:xfrm>
            <a:off x="0" y="980640"/>
            <a:ext cx="9144000" cy="5472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Miglioramento della cura di sé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ollecitare il paziente a provvedere all’autoassistenza, compatibilmente con le sue condizioni clinich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redisporsi all’ascolto empatico e rassicurare il paziente. Istruire il paziente in dimissione sulla gestione dell’accesso venoso che rimane in sed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avorire il benessere spiritual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nformarsi sulle pratiche spirituali del paziente, ed offrire il sostegno di un sacerdo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ltivare la speranza, rapportandola ad attese realistiche rispetto alla condizione clinica</a:t>
            </a:r>
            <a:endParaRPr b="0" lang="en-US" sz="3000" spc="-1" strike="noStrike">
              <a:solidFill>
                <a:srgbClr val="000000"/>
              </a:solidFill>
              <a:latin typeface="Calibri"/>
            </a:endParaRPr>
          </a:p>
        </p:txBody>
      </p:sp>
      <p:pic>
        <p:nvPicPr>
          <p:cNvPr id="135"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3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2F2D-FBE6-4787-AD4A-917A70CB91F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260280"/>
            <a:ext cx="727236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SISTENZA INFERMIERISTICA</a:t>
            </a:r>
            <a:endParaRPr b="0" lang="en-US" sz="4400" spc="-1" strike="noStrike">
              <a:solidFill>
                <a:srgbClr val="000000"/>
              </a:solidFill>
              <a:latin typeface="Calibri"/>
            </a:endParaRPr>
          </a:p>
        </p:txBody>
      </p:sp>
      <p:sp>
        <p:nvSpPr>
          <p:cNvPr id="138" name=""/>
          <p:cNvSpPr txBox="1"/>
          <p:nvPr/>
        </p:nvSpPr>
        <p:spPr>
          <a:xfrm>
            <a:off x="250560" y="1196640"/>
            <a:ext cx="8569080" cy="5111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sultati att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aziente non mostra segni di infezi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on è soggetto a sanguinamen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 le mucose orali integ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tiene uno stato nutrizionale ottima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ferisce alleviamento del dolo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ollera meglio l’attività fis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artecipa all’autoassistenz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artecipa alle decisioni sull’assistenza terminale</a:t>
            </a:r>
            <a:endParaRPr b="0" lang="en-US" sz="3200" spc="-1" strike="noStrike">
              <a:solidFill>
                <a:srgbClr val="000000"/>
              </a:solidFill>
              <a:latin typeface="Calibri"/>
            </a:endParaRPr>
          </a:p>
        </p:txBody>
      </p:sp>
      <p:pic>
        <p:nvPicPr>
          <p:cNvPr id="139" name="Picture 5" descr="https://media2.picsearch.com/is?yD97EhqaOWND23z8WBJKGcM3xOCNgu8PH0uWdOEbC9U&amp;height=255"/>
          <p:cNvPicPr/>
          <p:nvPr/>
        </p:nvPicPr>
        <p:blipFill>
          <a:blip r:embed="rId1"/>
          <a:stretch/>
        </p:blipFill>
        <p:spPr>
          <a:xfrm>
            <a:off x="7308720" y="0"/>
            <a:ext cx="1835280" cy="1373040"/>
          </a:xfrm>
          <a:prstGeom prst="rect">
            <a:avLst/>
          </a:prstGeom>
          <a:ln w="0">
            <a:noFill/>
          </a:ln>
        </p:spPr>
      </p:pic>
      <p:sp>
        <p:nvSpPr>
          <p:cNvPr id="14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D07E-E9A3-4790-901C-C751AFC2014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RAPIANTO DI MIDOLLO OSSEO</a:t>
            </a:r>
            <a:endParaRPr b="0" lang="en-US" sz="4400" spc="-1" strike="noStrike">
              <a:solidFill>
                <a:srgbClr val="000000"/>
              </a:solidFill>
              <a:latin typeface="Calibri"/>
            </a:endParaRPr>
          </a:p>
        </p:txBody>
      </p:sp>
      <p:sp>
        <p:nvSpPr>
          <p:cNvPr id="142" name=""/>
          <p:cNvSpPr txBox="1"/>
          <p:nvPr/>
        </p:nvSpPr>
        <p:spPr>
          <a:xfrm>
            <a:off x="0" y="836640"/>
            <a:ext cx="9144000" cy="602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E’ un trattamento potenzialmente in grado di portare a guarigione alcuni tipi di leucemia.</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Può essere effettuato trapianto autologo (dallo stesso paziente) o allogenico (da donatore compatibile).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Nel primo caso il paziente viene sottoposto a trattamento di chemioterapia intensiva per annientare la funzione midollare. Le cellule staminali isolate del paziente o del donatore vengono infuse con tecnica trasfusionale. Le cellule staminali raggiungono il midollo, e lentamente ripristinano l’ematopoiesi. Nell’autotrapianto il rischio di complicanze o di mortalità è più basso. Il successo del trattamento dipende dal grado di tolleranza all’immunosoppressione e dall’istocompatibilità.</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E’ necessaria un’assistenza infermieristica intensiva, per prevenire le infezioni e individuare precocemente segni e sintomi di complicanz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43"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8A1E-334F-4BD0-B83E-69A33D9A42B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920"/>
            <a:ext cx="7570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OMMINISTRAZIONE TERAPIA</a:t>
            </a:r>
            <a:endParaRPr b="0" lang="en-US" sz="4400" spc="-1" strike="noStrike">
              <a:solidFill>
                <a:srgbClr val="000000"/>
              </a:solidFill>
              <a:latin typeface="Calibri"/>
            </a:endParaRPr>
          </a:p>
        </p:txBody>
      </p:sp>
      <p:sp>
        <p:nvSpPr>
          <p:cNvPr id="145" name=""/>
          <p:cNvSpPr txBox="1"/>
          <p:nvPr/>
        </p:nvSpPr>
        <p:spPr>
          <a:xfrm>
            <a:off x="0" y="1125360"/>
            <a:ext cx="8856720" cy="57326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infermiere che gestisce la chemioterapia deve conosce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Farmaci chemioterapici e loro effetti collaterali</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Vie di somministrazione (spesso e.v. o ora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Manipolazione in sicurezza (D.Lgs. 9 aprile 2008 n°8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Importanza dei tempi di somministrazione e dell’eventuale premedicazion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Gestione degli effetti collaterali (educazione terapeutica pz/caregiv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Gestione dello stravaso (tossicità locale dei diversi chemioterapici, antidoti)</a:t>
            </a:r>
            <a:endParaRPr b="0" lang="en-US" sz="3000" spc="-1" strike="noStrike">
              <a:solidFill>
                <a:srgbClr val="000000"/>
              </a:solidFill>
              <a:latin typeface="Calibri"/>
            </a:endParaRPr>
          </a:p>
        </p:txBody>
      </p:sp>
      <p:pic>
        <p:nvPicPr>
          <p:cNvPr id="146" name="Picture 2" descr=""/>
          <p:cNvPicPr/>
          <p:nvPr/>
        </p:nvPicPr>
        <p:blipFill>
          <a:blip r:embed="rId1"/>
          <a:stretch/>
        </p:blipFill>
        <p:spPr>
          <a:xfrm>
            <a:off x="7521480" y="0"/>
            <a:ext cx="1622520" cy="1916280"/>
          </a:xfrm>
          <a:prstGeom prst="rect">
            <a:avLst/>
          </a:prstGeom>
          <a:ln w="0">
            <a:noFill/>
          </a:ln>
        </p:spPr>
      </p:pic>
      <p:sp>
        <p:nvSpPr>
          <p:cNvPr id="147"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655A-4186-4D19-85AA-86D7E87A497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475920"/>
            <a:ext cx="9144000" cy="63817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a produzione delle cellule ematiche del sangue si</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realizza nel midollo osseo e prende il nome di ematopoiesi.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Normalmente la produzione di queste cellule è finemente regolata dalle esigenze dell’organismo. Quando il controllo omeostatico della produzione cellulare viene alterato, la proliferazione può assumere caratteristiche neoplastich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eucemie: proliferazione neoplastica di un particolare tipo di cellula (granulocita, monocita, linfocita, megacariocita).</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infomi: neoplasie del tessuto linfoide, che derivano in genere dai linfociti B.</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Mieloma multiplo: neoplasia maligna che colpisce le plasmacellule, cioè i linfociti B nella loro forma più matura.</a:t>
            </a:r>
            <a:endParaRPr b="0" lang="en-US" sz="2700" spc="-1" strike="noStrike">
              <a:solidFill>
                <a:srgbClr val="000000"/>
              </a:solidFill>
              <a:latin typeface="Calibri"/>
            </a:endParaRPr>
          </a:p>
        </p:txBody>
      </p:sp>
      <p:pic>
        <p:nvPicPr>
          <p:cNvPr id="49" name="Picture 5" descr="https://media3.picsearch.com/is?Fr4Uhobge1zMVpIJVhg_vnYnvqGYZjnqKm_8mhAumhg&amp;height=249"/>
          <p:cNvPicPr/>
          <p:nvPr/>
        </p:nvPicPr>
        <p:blipFill>
          <a:blip r:embed="rId1"/>
          <a:stretch/>
        </p:blipFill>
        <p:spPr>
          <a:xfrm>
            <a:off x="7451640" y="0"/>
            <a:ext cx="1692360" cy="1025640"/>
          </a:xfrm>
          <a:prstGeom prst="rect">
            <a:avLst/>
          </a:prstGeom>
          <a:ln w="0">
            <a:noFill/>
          </a:ln>
        </p:spPr>
      </p:pic>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B6CC-0B8C-4004-8FBF-AD9F0D26E5F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43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TETERE VENOSO CENTRALE</a:t>
            </a:r>
            <a:endParaRPr b="0" lang="en-US" sz="4400" spc="-1" strike="noStrike">
              <a:solidFill>
                <a:srgbClr val="000000"/>
              </a:solidFill>
              <a:latin typeface="Calibri"/>
            </a:endParaRPr>
          </a:p>
        </p:txBody>
      </p:sp>
      <p:sp>
        <p:nvSpPr>
          <p:cNvPr id="149" name=""/>
          <p:cNvSpPr txBox="1"/>
          <p:nvPr/>
        </p:nvSpPr>
        <p:spPr>
          <a:xfrm>
            <a:off x="684000" y="1600200"/>
            <a:ext cx="8002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ort a c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ICC</a:t>
            </a:r>
            <a:endParaRPr b="0" lang="en-US" sz="3200" spc="-1" strike="noStrike">
              <a:solidFill>
                <a:srgbClr val="000000"/>
              </a:solidFill>
              <a:latin typeface="Calibri"/>
            </a:endParaRPr>
          </a:p>
        </p:txBody>
      </p:sp>
      <p:pic>
        <p:nvPicPr>
          <p:cNvPr id="150" name="Picture 2" descr="https://i.ytimg.com/vi/b5ZtZ4nimfI/hqdefault.jpg"/>
          <p:cNvPicPr/>
          <p:nvPr/>
        </p:nvPicPr>
        <p:blipFill>
          <a:blip r:embed="rId1"/>
          <a:stretch/>
        </p:blipFill>
        <p:spPr>
          <a:xfrm>
            <a:off x="3957480" y="1125360"/>
            <a:ext cx="3170520" cy="2374920"/>
          </a:xfrm>
          <a:prstGeom prst="rect">
            <a:avLst/>
          </a:prstGeom>
          <a:ln w="0">
            <a:noFill/>
          </a:ln>
        </p:spPr>
      </p:pic>
      <p:pic>
        <p:nvPicPr>
          <p:cNvPr id="151" name="Picture 4" descr="http://3.bp.blogspot.com/-meaWm3dCxN4/T2WE1RGZm9I/AAAAAAAAIjY/J1xX1I64u1Y/s1600/Malkiewicz+Judy+PICC+Line+L+Arm+UCH+Mar+16+2012+7575.jpg"/>
          <p:cNvPicPr/>
          <p:nvPr/>
        </p:nvPicPr>
        <p:blipFill>
          <a:blip r:embed="rId2"/>
          <a:stretch/>
        </p:blipFill>
        <p:spPr>
          <a:xfrm>
            <a:off x="3995640" y="4176720"/>
            <a:ext cx="3156120" cy="2367000"/>
          </a:xfrm>
          <a:prstGeom prst="rect">
            <a:avLst/>
          </a:prstGeom>
          <a:ln w="0">
            <a:noFill/>
          </a:ln>
        </p:spPr>
      </p:pic>
      <p:sp>
        <p:nvSpPr>
          <p:cNvPr id="152" name="Segnaposto numero diapositiva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9554-2AD1-4D6B-A3DD-34C66AF8D64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54" name=""/>
          <p:cNvSpPr txBox="1"/>
          <p:nvPr/>
        </p:nvSpPr>
        <p:spPr>
          <a:xfrm>
            <a:off x="250560" y="1600200"/>
            <a:ext cx="8569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controllo dei tempi di infusione avviene attraverso la pompa infusiva.</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494080" y="2708280"/>
            <a:ext cx="3806640" cy="4037040"/>
          </a:xfrm>
          <a:prstGeom prst="rect">
            <a:avLst/>
          </a:prstGeom>
          <a:ln w="0">
            <a:noFill/>
          </a:ln>
        </p:spPr>
      </p:pic>
      <p:sp>
        <p:nvSpPr>
          <p:cNvPr id="156"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D57E-CA7F-469B-9F20-F715EA02E0C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78920" y="11556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ANIPOLAZIONE IN SICUREZZA: DPI</a:t>
            </a:r>
            <a:br>
              <a:rPr sz="4400"/>
            </a:br>
            <a:r>
              <a:rPr b="0" lang="it-IT" sz="2400" spc="-1" strike="noStrike">
                <a:solidFill>
                  <a:srgbClr val="000000"/>
                </a:solidFill>
                <a:latin typeface="Calibri"/>
              </a:rPr>
              <a:t>D.Lgs. 9 aprile 2008 n°81</a:t>
            </a:r>
            <a:endParaRPr b="0" lang="en-US" sz="2400" spc="-1" strike="noStrike">
              <a:solidFill>
                <a:srgbClr val="000000"/>
              </a:solidFill>
              <a:latin typeface="Calibri"/>
            </a:endParaRPr>
          </a:p>
        </p:txBody>
      </p:sp>
      <p:sp>
        <p:nvSpPr>
          <p:cNvPr id="158" name=""/>
          <p:cNvSpPr txBox="1"/>
          <p:nvPr/>
        </p:nvSpPr>
        <p:spPr>
          <a:xfrm>
            <a:off x="1080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uff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scherina FFP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Guanti da antiblasti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È UN OBBLIGO!!</a:t>
            </a:r>
            <a:endParaRPr b="0" lang="en-US" sz="3200" spc="-1" strike="noStrike">
              <a:solidFill>
                <a:srgbClr val="000000"/>
              </a:solidFill>
              <a:latin typeface="Calibri"/>
            </a:endParaRPr>
          </a:p>
        </p:txBody>
      </p:sp>
      <p:pic>
        <p:nvPicPr>
          <p:cNvPr id="159" name="Picture 2" descr=""/>
          <p:cNvPicPr/>
          <p:nvPr/>
        </p:nvPicPr>
        <p:blipFill>
          <a:blip r:embed="rId1"/>
          <a:stretch/>
        </p:blipFill>
        <p:spPr>
          <a:xfrm>
            <a:off x="5076720" y="1531800"/>
            <a:ext cx="4048200" cy="5353200"/>
          </a:xfrm>
          <a:prstGeom prst="rect">
            <a:avLst/>
          </a:prstGeom>
          <a:ln w="0">
            <a:noFill/>
          </a:ln>
        </p:spPr>
      </p:pic>
      <p:sp>
        <p:nvSpPr>
          <p:cNvPr id="16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5970-A027-4E57-A41B-53B73E365A0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3" name="Picture 2" descr=""/>
          <p:cNvPicPr/>
          <p:nvPr/>
        </p:nvPicPr>
        <p:blipFill>
          <a:blip r:embed="rId1"/>
          <a:stretch/>
        </p:blipFill>
        <p:spPr>
          <a:xfrm>
            <a:off x="-36360" y="0"/>
            <a:ext cx="4500360" cy="6885000"/>
          </a:xfrm>
          <a:prstGeom prst="rect">
            <a:avLst/>
          </a:prstGeom>
          <a:ln w="0">
            <a:noFill/>
          </a:ln>
        </p:spPr>
      </p:pic>
      <p:pic>
        <p:nvPicPr>
          <p:cNvPr id="164" name="Picture 3" descr=""/>
          <p:cNvPicPr/>
          <p:nvPr/>
        </p:nvPicPr>
        <p:blipFill>
          <a:blip r:embed="rId2"/>
          <a:stretch/>
        </p:blipFill>
        <p:spPr>
          <a:xfrm>
            <a:off x="4356000" y="0"/>
            <a:ext cx="4788000" cy="6864480"/>
          </a:xfrm>
          <a:prstGeom prst="rect">
            <a:avLst/>
          </a:prstGeom>
          <a:ln w="0">
            <a:noFill/>
          </a:ln>
        </p:spPr>
      </p:pic>
      <p:sp>
        <p:nvSpPr>
          <p:cNvPr id="165" name="Segnaposto numero diapositiva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6DFB-7933-41B2-AAD6-09FEFAE0859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712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E</a:t>
            </a:r>
            <a:endParaRPr b="0" lang="en-US" sz="4400" spc="-1" strike="noStrike">
              <a:solidFill>
                <a:srgbClr val="000000"/>
              </a:solidFill>
              <a:latin typeface="Calibri"/>
            </a:endParaRPr>
          </a:p>
        </p:txBody>
      </p:sp>
      <p:sp>
        <p:nvSpPr>
          <p:cNvPr id="52" name=""/>
          <p:cNvSpPr txBox="1"/>
          <p:nvPr/>
        </p:nvSpPr>
        <p:spPr>
          <a:xfrm>
            <a:off x="0" y="907560"/>
            <a:ext cx="9144000" cy="5877000"/>
          </a:xfrm>
          <a:prstGeom prst="rect">
            <a:avLst/>
          </a:prstGeom>
          <a:noFill/>
          <a:ln w="0">
            <a:noFill/>
          </a:ln>
        </p:spPr>
        <p:txBody>
          <a:bodyPr anchor="t">
            <a:normAutofit/>
          </a:bodyPr>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e leucemie sono caratterizzate dalla proliferazione incontrollata di leucociti nel midollo osseo.</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elle forme acute la proliferazione delle cellule malate prevale abbondantemente su quelle sane.</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iperproliferazione coinvolge anche fegato, milza e infiltra organi o tessuti (linfonodi, meningi, cute).</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on sono note le cause della leucemia, anche se è noto che l’esposizione a radiazioni ionizzanti, al benzene e ad agenti alchilanti predispone a leucemia.</a:t>
            </a:r>
            <a:endParaRPr b="0" lang="en-US" sz="3000" spc="-1" strike="noStrike">
              <a:solidFill>
                <a:srgbClr val="000000"/>
              </a:solidFill>
              <a:latin typeface="Calibri"/>
            </a:endParaRPr>
          </a:p>
          <a:p>
            <a:pPr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endParaRPr b="0" lang="en-US" sz="3000" spc="-1" strike="noStrike">
              <a:solidFill>
                <a:srgbClr val="000000"/>
              </a:solidFill>
              <a:latin typeface="Calibri"/>
            </a:endParaRPr>
          </a:p>
        </p:txBody>
      </p:sp>
      <p:pic>
        <p:nvPicPr>
          <p:cNvPr id="53" name="Picture 5" descr="https://media3.picsearch.com/is?Fr4Uhobge1zMVpIJVhg_vnYnvqGYZjnqKm_8mhAumhg&amp;height=249"/>
          <p:cNvPicPr/>
          <p:nvPr/>
        </p:nvPicPr>
        <p:blipFill>
          <a:blip r:embed="rId1"/>
          <a:stretch/>
        </p:blipFill>
        <p:spPr>
          <a:xfrm>
            <a:off x="7380360" y="0"/>
            <a:ext cx="1763640" cy="1052640"/>
          </a:xfrm>
          <a:prstGeom prst="rect">
            <a:avLst/>
          </a:prstGeom>
          <a:ln w="0">
            <a:noFill/>
          </a:ln>
        </p:spPr>
      </p:pic>
      <p:sp>
        <p:nvSpPr>
          <p:cNvPr id="5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E6D3-2C93-49EA-8FF3-0FA7C1B83455}"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49000"/>
            <a:ext cx="8229600" cy="557676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stinguiamo le leucemie in:</a:t>
            </a: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Mieloide o linfatica, a seconda del tipo di cellule interessate;</a:t>
            </a: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cute e croniche in base al tempo di esordio della sintomatologia e all’evoluzione della malatt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976F-1B37-4C7B-B75E-4CC1C66A0E77}"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 y="43920"/>
            <a:ext cx="82296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58" name=""/>
          <p:cNvSpPr txBox="1"/>
          <p:nvPr/>
        </p:nvSpPr>
        <p:spPr>
          <a:xfrm>
            <a:off x="0" y="980640"/>
            <a:ext cx="9144000" cy="580572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2700" spc="-1" strike="noStrike">
                <a:solidFill>
                  <a:srgbClr val="000000"/>
                </a:solidFill>
                <a:latin typeface="Calibri"/>
              </a:rPr>
              <a:t>Colpisce tutti i tipi di cellule staminali destinate a differenziarsi nei vari tipi di cellule mieloidi: monociti, granulociti (basofili, neutrofili, eusinofili), eritrociti, piastrine. </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Colpisce individui di tutte le età, con maggiore incidenza ai 60 anni.</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E’ potenzialmente curabile; nelle forme meno differenziate o nei pazienti già affetti da sindrome mielodistrofica la prognosi è tendenzialmente peggiore, e la morte sopraggiunge in meno di un anno per infezioni o emorragie.</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Può essere classificata in sette sottogruppi, in base alle caratteristiche citogenetiche, morfologiche e istologiche dei blasti.</a:t>
            </a:r>
            <a:endParaRPr b="0" lang="en-US" sz="2700" spc="-1" strike="noStrike">
              <a:solidFill>
                <a:srgbClr val="000000"/>
              </a:solidFill>
              <a:latin typeface="Calibri"/>
            </a:endParaRPr>
          </a:p>
        </p:txBody>
      </p:sp>
      <p:pic>
        <p:nvPicPr>
          <p:cNvPr id="59" name="Picture 5" descr="https://media3.picsearch.com/is?Fr4Uhobge1zMVpIJVhg_vnYnvqGYZjnqKm_8mhAumhg&amp;height=249"/>
          <p:cNvPicPr/>
          <p:nvPr/>
        </p:nvPicPr>
        <p:blipFill>
          <a:blip r:embed="rId1"/>
          <a:stretch/>
        </p:blipFill>
        <p:spPr>
          <a:xfrm>
            <a:off x="7451640" y="0"/>
            <a:ext cx="1692360" cy="981000"/>
          </a:xfrm>
          <a:prstGeom prst="rect">
            <a:avLst/>
          </a:prstGeom>
          <a:ln w="0">
            <a:noFill/>
          </a:ln>
        </p:spPr>
      </p:pic>
      <p:sp>
        <p:nvSpPr>
          <p:cNvPr id="60"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093C-41C5-4049-B93C-DCF9349F558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4920" y="1281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62" name=""/>
          <p:cNvSpPr txBox="1"/>
          <p:nvPr/>
        </p:nvSpPr>
        <p:spPr>
          <a:xfrm>
            <a:off x="179280" y="1079640"/>
            <a:ext cx="8785440" cy="551808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ntomatologia (subdol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ebbr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atigu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fezioni ricorrenti (è direttamente proporzionale al grado e alla durata della neutropeni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acilità di sanguinamento (ecchimosi, petecchi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perplasia gengivale;</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olore (osseo e/o degli organi interni).</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nguinamento: interessa prevalentemente l’apparato </a:t>
            </a:r>
            <a:r>
              <a:rPr b="0" lang="it-IT" sz="2500" spc="-1" strike="noStrike">
                <a:solidFill>
                  <a:srgbClr val="000000"/>
                </a:solidFill>
                <a:latin typeface="Calibri"/>
              </a:rPr>
              <a:t>	</a:t>
            </a:r>
            <a:r>
              <a:rPr b="0" lang="it-IT" sz="2500" spc="-1" strike="noStrike">
                <a:solidFill>
                  <a:srgbClr val="000000"/>
                </a:solidFill>
                <a:latin typeface="Calibri"/>
              </a:rPr>
              <a:t>	</a:t>
            </a:r>
            <a:r>
              <a:rPr b="0" lang="it-IT" sz="2500" spc="-1" strike="noStrike">
                <a:solidFill>
                  <a:srgbClr val="000000"/>
                </a:solidFill>
                <a:latin typeface="Calibri"/>
              </a:rPr>
              <a:t>	</a:t>
            </a:r>
            <a:r>
              <a:rPr b="0" lang="it-IT" sz="2500" spc="-1" strike="noStrike">
                <a:solidFill>
                  <a:srgbClr val="000000"/>
                </a:solidFill>
                <a:latin typeface="Calibri"/>
              </a:rPr>
              <a:t>	</a:t>
            </a:r>
            <a:r>
              <a:rPr b="0" lang="it-IT" sz="2500" spc="-1" strike="noStrike">
                <a:solidFill>
                  <a:srgbClr val="000000"/>
                </a:solidFill>
                <a:latin typeface="Calibri"/>
              </a:rPr>
              <a:t>     gastroenterico, i polmoni, il cervello.</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3" name="Picture 5" descr="https://media3.picsearch.com/is?Fr4Uhobge1zMVpIJVhg_vnYnvqGYZjnqKm_8mhAumhg&amp;height=249"/>
          <p:cNvPicPr/>
          <p:nvPr/>
        </p:nvPicPr>
        <p:blipFill>
          <a:blip r:embed="rId1"/>
          <a:stretch/>
        </p:blipFill>
        <p:spPr>
          <a:xfrm>
            <a:off x="7451640" y="0"/>
            <a:ext cx="1692360" cy="1052640"/>
          </a:xfrm>
          <a:prstGeom prst="rect">
            <a:avLst/>
          </a:prstGeom>
          <a:ln w="0">
            <a:noFill/>
          </a:ln>
        </p:spPr>
      </p:pic>
      <p:sp>
        <p:nvSpPr>
          <p:cNvPr id="64"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6FA6-6D52-462F-9CC4-BE9E52A7350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117000"/>
            <a:ext cx="8209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EUCEMIA MIELOIDE ACUTA</a:t>
            </a:r>
            <a:endParaRPr b="0" lang="en-US" sz="4400" spc="-1" strike="noStrike">
              <a:solidFill>
                <a:srgbClr val="000000"/>
              </a:solidFill>
              <a:latin typeface="Calibri"/>
            </a:endParaRPr>
          </a:p>
        </p:txBody>
      </p:sp>
      <p:sp>
        <p:nvSpPr>
          <p:cNvPr id="66" name=""/>
          <p:cNvSpPr txBox="1"/>
          <p:nvPr/>
        </p:nvSpPr>
        <p:spPr>
          <a:xfrm>
            <a:off x="0" y="1125360"/>
            <a:ext cx="9144000" cy="5399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800" spc="-1" strike="noStrike">
                <a:solidFill>
                  <a:srgbClr val="000000"/>
                </a:solidFill>
                <a:latin typeface="Calibri"/>
              </a:rPr>
              <a:t>Emocromo: percentuale di leucociti normali molto ridotta</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Esame citologico del midollo osseo: eccesso di blastociti immaturi.</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Il trattamento sanitario ha l’obiettivo di ottenere la remissione clinica, cioè l’assenza di cellule leucemiche residue nel midollo osseo.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Si effettua una chemioterapia di induzione in modalità di ricovero ospedaliero.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La terapia determina anche la perdita di cellule mieloidi normali, per cui il paziente ha neutropenia, anemia e trombocitopenia.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Il paziente è altamente esposto ad infezioni batteriche, fungine e virali, sanguinamenti, mucosite che causa diarrea e interferisce con l’alimentazione. </a:t>
            </a:r>
            <a:endParaRPr b="0" lang="en-US" sz="2800" spc="-1" strike="noStrike">
              <a:solidFill>
                <a:srgbClr val="000000"/>
              </a:solidFill>
              <a:latin typeface="Calibri"/>
            </a:endParaRPr>
          </a:p>
        </p:txBody>
      </p:sp>
      <p:pic>
        <p:nvPicPr>
          <p:cNvPr id="67" name="Picture 5" descr="https://media3.picsearch.com/is?Fr4Uhobge1zMVpIJVhg_vnYnvqGYZjnqKm_8mhAumhg&amp;height=249"/>
          <p:cNvPicPr/>
          <p:nvPr/>
        </p:nvPicPr>
        <p:blipFill>
          <a:blip r:embed="rId1"/>
          <a:stretch/>
        </p:blipFill>
        <p:spPr>
          <a:xfrm>
            <a:off x="7566120" y="0"/>
            <a:ext cx="1577880" cy="1152360"/>
          </a:xfrm>
          <a:prstGeom prst="rect">
            <a:avLst/>
          </a:prstGeom>
          <a:ln w="0">
            <a:noFill/>
          </a:ln>
        </p:spPr>
      </p:pic>
      <p:sp>
        <p:nvSpPr>
          <p:cNvPr id="6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632-ED9C-4A4F-8836-ED8BD8096A1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07640" y="549000"/>
            <a:ext cx="8661240" cy="504036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Ottenuta la remissione, il paziente viene sottoposto a terapia di consolidamento, effettuata a cicli ripetuti, che ha lo scopo di eliminare tutte le cellule leucemiche residue. </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Nonostante il trattamento aggressivo, il 70% di queste leucemie recidivano.</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Un’opzione di trattamento è il trapianto di midollo osseo o di cellule staminali periferiche.</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Nei pazienti anziani con polipatologie, si attua solo assistenza di supporto con idrossiurea e trasfusioni. La sopravvivenza in questi casi è di pochi mesi.</a:t>
            </a:r>
            <a:endParaRPr b="0" lang="en-US" sz="2500" spc="-1" strike="noStrike">
              <a:solidFill>
                <a:srgbClr val="000000"/>
              </a:solidFill>
              <a:latin typeface="Calibri"/>
            </a:endParaRPr>
          </a:p>
        </p:txBody>
      </p:sp>
      <p:sp>
        <p:nvSpPr>
          <p:cNvPr id="70"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6205-1EDD-4F85-8870-765BC85D7B9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0T17:36:13Z</dcterms:created>
  <dc:creator>notebook</dc:creator>
  <dc:description/>
  <dc:language>en-US</dc:language>
  <cp:lastModifiedBy>Franco</cp:lastModifiedBy>
  <dcterms:modified xsi:type="dcterms:W3CDTF">2023-05-18T17:59:36Z</dcterms:modified>
  <cp:revision>121</cp:revision>
  <dc:subject/>
  <dc:title>Il paziente ematologico</dc:title>
</cp:coreProperties>
</file>